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DC63-AE57-4DF3-880F-3EB457D7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28A99-870C-475D-9211-4F277E75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BF34-A41D-4643-AB9D-D2363480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2C61-3EDB-48BB-B70E-E1DFDFDB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D5EA-8582-4008-A86C-7701B240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F5C7-0921-48C1-85C2-16C0E5B1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722E-112F-48F4-A044-07631550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4C7D-7D32-4079-9CF8-3D76837B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8AAF-EA66-49C4-9D46-25435CFA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7808-D939-45B6-9589-9AEFDE26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E0BB-3EB7-4678-B4F3-57075BB2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A04A-3941-4E19-B3A1-33C98DB4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FF4E-6A69-4990-B504-C2A0B2D6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5ABC-B8F2-4CAC-B154-3885E3E2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F98F-B7C5-447C-930C-8BDC1DA2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1B10-6D94-4B64-9E8C-A5C99EC0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AF8A-90F1-449F-94C0-9BFBC762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64F4C-02DD-468A-95A1-F0F8326A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EFDF9-AA70-4639-8FE5-DA9246D4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BEDE8-B96D-4E32-9AC9-DC61CD86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18544-D182-4082-BED5-8350D8D4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99F98-3F83-46A0-899F-3F4356F1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6D21-688B-45B4-91E4-61E97C17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87CDD-8237-4BFD-952F-8E80BC18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5E3F5-A061-44C6-BEC1-A5D5BA0E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DEB57-7345-4604-900A-191108D3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5C8EB-2824-4216-9123-B6F576D0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73B6C-B6AC-46EE-9EEF-338D0169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11D71-1AF1-4A63-A04B-B5D8A2E2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7060B-898E-49D8-853B-921A68DE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15A09-1D56-442B-B4F1-EA8389D2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D69C8-B064-485D-9DBA-9BDB0300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F824E-52BB-4331-9786-D610ABE4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5F0A-79C2-4748-9027-DDC15220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0E519-EC91-4AF1-9A4D-90D0DB53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E7ADD-F65C-4808-9659-21335C09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F92BD-E984-4000-AE54-9EF333B7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14E8F-7C90-4652-8C98-EA17FBDB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58459-D37D-4AF1-8AA9-4A01B5B9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30012-5D05-4FCD-A3A8-8020A4AB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AB6AA-ABBC-4569-84DA-B1642E72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60E56-288E-4297-864F-72FB6425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FB231-0C9F-4F77-B2FB-11C99D5B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38D03-BE43-420A-96A0-80FDBF22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3883-C6B5-4A7D-AE98-EC008BEC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46DA8-66A7-481B-98F2-9C7E870D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63BCA-AA9D-4D3C-90A8-EEF85589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0EC65-934F-4D97-A452-B3CF30FB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1DC13-37DC-411A-919D-CC4F8451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E8B19-DD5B-4D55-8519-D34BE246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ABD34-6ABE-4EAC-A0C9-7962C3ED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0CFC9-3E59-428D-AD68-9A1FB05C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FD415-8E19-487D-8EC8-25F15BCF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351CC-BEA6-497C-8DBE-91FFBF6F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2C546-7ECE-497E-9D18-C6E58023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0200-9FBF-4576-9372-1F5DACD2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113C7-BF47-4190-8C49-DCBD3F11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18888-8FF3-4CDE-BF4E-38EF04BE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F5921-38DF-4170-8EC2-07E0CC2B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2DBCA-7B2A-4DB9-8563-7D74092A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FCAC9-CFD7-4FED-AAF4-C3C06669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85AEF-1A29-47D1-B041-29790E6E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AFA7D-7628-4E8E-9061-B2556C23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BBB79-91DF-41B3-BEC1-B2956029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20B74-1F5D-468A-861B-17274969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85B28-9CC0-4CE9-8C5F-92ABB7B5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7B78-09C9-495D-8587-9FD70A44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A9610-9AA8-49E6-9526-7F8FE3D4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56494-B357-4571-A9CD-AB2561A3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A5199-39CD-4C25-AE38-4A5A2FEC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16EBF-67A4-4E75-B3BC-42959E23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25A48-94C1-4484-9F6D-DB7C5AC4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BA43D-FA3C-407A-88C0-BED78AA6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A20AF-F407-4237-84D2-5EB0627A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4A62B-F3E1-46BC-843D-94EC3E74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2E928-454E-4D9C-BBE6-65308289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D1D55-A061-43D3-ADD2-8241CDD8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5446-1B9C-4780-9291-9FC02613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7D313-EC60-4021-AC2F-097C51E7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167F0-CD59-470D-BAB5-07D1D6CF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2919B-15F0-42E1-BF35-D8E2119B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EB010-1EB3-4B13-BB9B-638CCECE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17282-2F1F-4EA9-B57D-CDA67EFC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8A44C-BAFD-43EF-A1D8-9EC8A3E1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9E87D-78C8-46AF-AB6C-15874C18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78256-4343-4D15-9FDA-83B786DF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68786-1BAF-4E3F-A824-A81AAD35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2E59D-70B3-42C7-A3FC-2D5102CF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BED4-4BC7-44B0-A573-E98723CD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FF3FD-9647-452D-A855-08B79AA1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0D1EF-F015-4440-A0D9-B721C08F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465B0-E64F-4416-A983-DED50B9D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53E60-5A64-4FDE-8FB9-896D093E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78645-8B59-4F9C-BADE-2EBE71A2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FEE54-4C4D-45A2-A920-CC69C248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DD1C4-3FA6-4733-A0C1-931934ED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58A8-7641-43BD-BC5B-5E4756AD0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AE22-8B69-432C-A814-037C9C0BB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1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1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A582-BE7D-46E8-9AFA-6CAA1EDB96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2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2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EB47-C7D1-4F3B-9761-CDAF742B3B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2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2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3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3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4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4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4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5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77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78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78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0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0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1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1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2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2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3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192D-9CC7-4777-B382-23899ED962B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90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0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90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0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0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1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1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1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1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2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2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2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3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3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3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3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4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4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4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5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5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5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6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6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6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6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7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7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8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8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98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98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9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9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0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0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0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0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01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02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177E-6A37-4CCE-8339-6045128EFD1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FD43-C62E-4729-B26B-8008F1BACF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1B67-BD8D-4777-8069-1678622CB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54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nry’s Freedom Bo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133640" y="4830840"/>
            <a:ext cx="1403280" cy="1492200"/>
          </a:xfrm>
          <a:custGeom>
            <a:avLst/>
            <a:gdLst/>
            <a:ahLst/>
            <a:rect l="l" t="t" r="r" b="b"/>
            <a:pathLst>
              <a:path w="3896" h="4144">
                <a:moveTo>
                  <a:pt x="3150" y="13419"/>
                </a:moveTo>
                <a:cubicBezTo>
                  <a:pt x="3150" y="13661"/>
                  <a:pt x="3172" y="13898"/>
                  <a:pt x="3175" y="14139"/>
                </a:cubicBezTo>
                <a:cubicBezTo>
                  <a:pt x="3180" y="14599"/>
                  <a:pt x="3156" y="15042"/>
                  <a:pt x="3249" y="15478"/>
                </a:cubicBezTo>
                <a:cubicBezTo>
                  <a:pt x="3276" y="15606"/>
                  <a:pt x="3220" y="15725"/>
                  <a:pt x="3200" y="15825"/>
                </a:cubicBezTo>
                <a:cubicBezTo>
                  <a:pt x="3170" y="15973"/>
                  <a:pt x="3190" y="16204"/>
                  <a:pt x="3225" y="16346"/>
                </a:cubicBezTo>
                <a:cubicBezTo>
                  <a:pt x="3264" y="16504"/>
                  <a:pt x="3310" y="16658"/>
                  <a:pt x="3324" y="16818"/>
                </a:cubicBezTo>
                <a:cubicBezTo>
                  <a:pt x="3342" y="17016"/>
                  <a:pt x="3303" y="17231"/>
                  <a:pt x="3349" y="17413"/>
                </a:cubicBezTo>
              </a:path>
              <a:path w="3896" h="4144">
                <a:moveTo>
                  <a:pt x="3349" y="17413"/>
                </a:moveTo>
                <a:cubicBezTo>
                  <a:pt x="3387" y="17423"/>
                  <a:pt x="3413" y="17426"/>
                  <a:pt x="3448" y="17438"/>
                </a:cubicBezTo>
                <a:cubicBezTo>
                  <a:pt x="3478" y="17448"/>
                  <a:pt x="3518" y="17458"/>
                  <a:pt x="3547" y="17462"/>
                </a:cubicBezTo>
                <a:cubicBezTo>
                  <a:pt x="3831" y="17496"/>
                  <a:pt x="4131" y="17459"/>
                  <a:pt x="4415" y="17487"/>
                </a:cubicBezTo>
                <a:cubicBezTo>
                  <a:pt x="4528" y="17498"/>
                  <a:pt x="4638" y="17485"/>
                  <a:pt x="4738" y="17512"/>
                </a:cubicBezTo>
                <a:cubicBezTo>
                  <a:pt x="4791" y="17526"/>
                  <a:pt x="4837" y="17556"/>
                  <a:pt x="4887" y="17562"/>
                </a:cubicBezTo>
                <a:cubicBezTo>
                  <a:pt x="5358" y="17616"/>
                  <a:pt x="5907" y="17575"/>
                  <a:pt x="6375" y="17537"/>
                </a:cubicBezTo>
                <a:cubicBezTo>
                  <a:pt x="6595" y="17519"/>
                  <a:pt x="6824" y="17537"/>
                  <a:pt x="7045" y="17537"/>
                </a:cubicBezTo>
              </a:path>
              <a:path w="3896" h="4144">
                <a:moveTo>
                  <a:pt x="6598" y="17140"/>
                </a:moveTo>
                <a:cubicBezTo>
                  <a:pt x="6655" y="17140"/>
                  <a:pt x="6531" y="17149"/>
                  <a:pt x="6598" y="17115"/>
                </a:cubicBezTo>
                <a:cubicBezTo>
                  <a:pt x="6606" y="17115"/>
                  <a:pt x="6615" y="17115"/>
                  <a:pt x="6623" y="17115"/>
                </a:cubicBezTo>
                <a:cubicBezTo>
                  <a:pt x="6623" y="17154"/>
                  <a:pt x="6639" y="17185"/>
                  <a:pt x="6598" y="17190"/>
                </a:cubicBezTo>
                <a:cubicBezTo>
                  <a:pt x="6590" y="17190"/>
                  <a:pt x="6581" y="17190"/>
                  <a:pt x="6573" y="17190"/>
                </a:cubicBezTo>
                <a:cubicBezTo>
                  <a:pt x="6611" y="17177"/>
                  <a:pt x="6602" y="17168"/>
                  <a:pt x="6623" y="17140"/>
                </a:cubicBezTo>
                <a:cubicBezTo>
                  <a:pt x="6654" y="17098"/>
                  <a:pt x="6673" y="17090"/>
                  <a:pt x="6722" y="17090"/>
                </a:cubicBezTo>
                <a:cubicBezTo>
                  <a:pt x="6722" y="17154"/>
                  <a:pt x="6693" y="17133"/>
                  <a:pt x="6672" y="17165"/>
                </a:cubicBezTo>
                <a:cubicBezTo>
                  <a:pt x="6659" y="17185"/>
                  <a:pt x="6635" y="17202"/>
                  <a:pt x="6598" y="17214"/>
                </a:cubicBezTo>
                <a:cubicBezTo>
                  <a:pt x="6573" y="17214"/>
                  <a:pt x="6565" y="17214"/>
                  <a:pt x="6548" y="17214"/>
                </a:cubicBezTo>
              </a:path>
              <a:path w="3896" h="4144">
                <a:moveTo>
                  <a:pt x="3795" y="17190"/>
                </a:moveTo>
                <a:cubicBezTo>
                  <a:pt x="3795" y="17128"/>
                  <a:pt x="3805" y="17095"/>
                  <a:pt x="3820" y="17066"/>
                </a:cubicBezTo>
                <a:cubicBezTo>
                  <a:pt x="3837" y="17031"/>
                  <a:pt x="3846" y="17041"/>
                  <a:pt x="3894" y="17041"/>
                </a:cubicBezTo>
                <a:cubicBezTo>
                  <a:pt x="3947" y="17041"/>
                  <a:pt x="3944" y="17073"/>
                  <a:pt x="3944" y="17115"/>
                </a:cubicBezTo>
                <a:cubicBezTo>
                  <a:pt x="3944" y="17177"/>
                  <a:pt x="3955" y="17237"/>
                  <a:pt x="3919" y="17264"/>
                </a:cubicBezTo>
                <a:cubicBezTo>
                  <a:pt x="3881" y="17293"/>
                  <a:pt x="3868" y="17289"/>
                  <a:pt x="3820" y="17289"/>
                </a:cubicBezTo>
                <a:cubicBezTo>
                  <a:pt x="3795" y="17289"/>
                  <a:pt x="3771" y="17289"/>
                  <a:pt x="3746" y="17289"/>
                </a:cubicBezTo>
                <a:cubicBezTo>
                  <a:pt x="3746" y="17232"/>
                  <a:pt x="3737" y="17190"/>
                  <a:pt x="3770" y="17165"/>
                </a:cubicBezTo>
                <a:cubicBezTo>
                  <a:pt x="3789" y="17150"/>
                  <a:pt x="3843" y="17094"/>
                  <a:pt x="3845" y="17090"/>
                </a:cubicBezTo>
                <a:cubicBezTo>
                  <a:pt x="3861" y="17059"/>
                  <a:pt x="3849" y="17066"/>
                  <a:pt x="3894" y="17066"/>
                </a:cubicBezTo>
                <a:cubicBezTo>
                  <a:pt x="3894" y="17135"/>
                  <a:pt x="3889" y="17181"/>
                  <a:pt x="3870" y="17239"/>
                </a:cubicBezTo>
                <a:cubicBezTo>
                  <a:pt x="3864" y="17258"/>
                  <a:pt x="3854" y="17337"/>
                  <a:pt x="3845" y="17264"/>
                </a:cubicBezTo>
                <a:cubicBezTo>
                  <a:pt x="3845" y="17239"/>
                  <a:pt x="3845" y="17231"/>
                  <a:pt x="3845" y="17214"/>
                </a:cubicBezTo>
              </a:path>
            </a:pathLst>
          </a:custGeom>
          <a:noFill/>
          <a:ln cap="rnd" w="34920">
            <a:solidFill>
              <a:srgbClr val="6c86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133640" y="4232160"/>
            <a:ext cx="1403280" cy="2081160"/>
          </a:xfrm>
          <a:custGeom>
            <a:avLst/>
            <a:gdLst/>
            <a:ahLst/>
            <a:rect l="l" t="t" r="r" b="b"/>
            <a:pathLst>
              <a:path w="3896" h="5781">
                <a:moveTo>
                  <a:pt x="7045" y="17537"/>
                </a:moveTo>
                <a:cubicBezTo>
                  <a:pt x="7027" y="17439"/>
                  <a:pt x="7017" y="17346"/>
                  <a:pt x="6970" y="17264"/>
                </a:cubicBezTo>
                <a:cubicBezTo>
                  <a:pt x="6927" y="17187"/>
                  <a:pt x="6910" y="17172"/>
                  <a:pt x="6896" y="17090"/>
                </a:cubicBezTo>
                <a:cubicBezTo>
                  <a:pt x="6871" y="16945"/>
                  <a:pt x="6884" y="16753"/>
                  <a:pt x="6871" y="16594"/>
                </a:cubicBezTo>
                <a:cubicBezTo>
                  <a:pt x="6863" y="16496"/>
                  <a:pt x="6808" y="16401"/>
                  <a:pt x="6796" y="16321"/>
                </a:cubicBezTo>
                <a:cubicBezTo>
                  <a:pt x="6768" y="16133"/>
                  <a:pt x="6783" y="15911"/>
                  <a:pt x="6772" y="15726"/>
                </a:cubicBezTo>
                <a:cubicBezTo>
                  <a:pt x="6757" y="15471"/>
                  <a:pt x="6778" y="15204"/>
                  <a:pt x="6796" y="14957"/>
                </a:cubicBezTo>
                <a:cubicBezTo>
                  <a:pt x="6805" y="14831"/>
                  <a:pt x="6813" y="14757"/>
                  <a:pt x="6846" y="14635"/>
                </a:cubicBezTo>
                <a:cubicBezTo>
                  <a:pt x="6886" y="14487"/>
                  <a:pt x="6896" y="14386"/>
                  <a:pt x="6896" y="14238"/>
                </a:cubicBezTo>
                <a:cubicBezTo>
                  <a:pt x="6896" y="13933"/>
                  <a:pt x="6892" y="13609"/>
                  <a:pt x="6871" y="13320"/>
                </a:cubicBezTo>
                <a:cubicBezTo>
                  <a:pt x="6867" y="13264"/>
                  <a:pt x="6852" y="13192"/>
                  <a:pt x="6846" y="13171"/>
                </a:cubicBezTo>
                <a:cubicBezTo>
                  <a:pt x="6839" y="13147"/>
                  <a:pt x="6833" y="13094"/>
                  <a:pt x="6821" y="13072"/>
                </a:cubicBezTo>
                <a:cubicBezTo>
                  <a:pt x="6810" y="13052"/>
                  <a:pt x="6777" y="13029"/>
                  <a:pt x="6772" y="12998"/>
                </a:cubicBezTo>
                <a:cubicBezTo>
                  <a:pt x="6743" y="12810"/>
                  <a:pt x="6755" y="12563"/>
                  <a:pt x="6796" y="12378"/>
                </a:cubicBezTo>
                <a:cubicBezTo>
                  <a:pt x="6817" y="12282"/>
                  <a:pt x="6841" y="12225"/>
                  <a:pt x="6846" y="12129"/>
                </a:cubicBezTo>
                <a:cubicBezTo>
                  <a:pt x="6851" y="12026"/>
                  <a:pt x="6860" y="11929"/>
                  <a:pt x="6871" y="11832"/>
                </a:cubicBezTo>
                <a:cubicBezTo>
                  <a:pt x="6871" y="11807"/>
                  <a:pt x="6871" y="11799"/>
                  <a:pt x="6871" y="11782"/>
                </a:cubicBezTo>
              </a:path>
              <a:path w="3896" h="5781">
                <a:moveTo>
                  <a:pt x="3150" y="13419"/>
                </a:moveTo>
                <a:cubicBezTo>
                  <a:pt x="3156" y="13377"/>
                  <a:pt x="3166" y="13358"/>
                  <a:pt x="3175" y="13320"/>
                </a:cubicBezTo>
                <a:cubicBezTo>
                  <a:pt x="3213" y="13307"/>
                  <a:pt x="3200" y="13291"/>
                  <a:pt x="3200" y="13246"/>
                </a:cubicBezTo>
                <a:cubicBezTo>
                  <a:pt x="3200" y="13055"/>
                  <a:pt x="3189" y="12850"/>
                  <a:pt x="3225" y="12675"/>
                </a:cubicBezTo>
                <a:cubicBezTo>
                  <a:pt x="3245" y="12574"/>
                  <a:pt x="3222" y="12471"/>
                  <a:pt x="3249" y="12378"/>
                </a:cubicBezTo>
                <a:cubicBezTo>
                  <a:pt x="3288" y="12245"/>
                  <a:pt x="3249" y="12046"/>
                  <a:pt x="3249" y="11906"/>
                </a:cubicBezTo>
              </a:path>
              <a:path w="3896" h="5781">
                <a:moveTo>
                  <a:pt x="3249" y="11906"/>
                </a:moveTo>
                <a:cubicBezTo>
                  <a:pt x="3282" y="11918"/>
                  <a:pt x="3312" y="11950"/>
                  <a:pt x="3324" y="11956"/>
                </a:cubicBezTo>
                <a:cubicBezTo>
                  <a:pt x="3352" y="11970"/>
                  <a:pt x="3396" y="11963"/>
                  <a:pt x="3423" y="11981"/>
                </a:cubicBezTo>
                <a:cubicBezTo>
                  <a:pt x="3438" y="11991"/>
                  <a:pt x="3466" y="12015"/>
                  <a:pt x="3497" y="12030"/>
                </a:cubicBezTo>
                <a:cubicBezTo>
                  <a:pt x="3554" y="12058"/>
                  <a:pt x="3609" y="12094"/>
                  <a:pt x="3671" y="12105"/>
                </a:cubicBezTo>
                <a:cubicBezTo>
                  <a:pt x="4154" y="12192"/>
                  <a:pt x="5077" y="12191"/>
                  <a:pt x="5531" y="12080"/>
                </a:cubicBezTo>
                <a:cubicBezTo>
                  <a:pt x="5590" y="12066"/>
                  <a:pt x="5643" y="12057"/>
                  <a:pt x="5705" y="12055"/>
                </a:cubicBezTo>
                <a:cubicBezTo>
                  <a:pt x="5762" y="12053"/>
                  <a:pt x="5803" y="12036"/>
                  <a:pt x="5854" y="12030"/>
                </a:cubicBezTo>
                <a:cubicBezTo>
                  <a:pt x="5911" y="12024"/>
                  <a:pt x="5954" y="12019"/>
                  <a:pt x="6003" y="12005"/>
                </a:cubicBezTo>
                <a:cubicBezTo>
                  <a:pt x="6057" y="11989"/>
                  <a:pt x="6093" y="11983"/>
                  <a:pt x="6152" y="11981"/>
                </a:cubicBezTo>
                <a:cubicBezTo>
                  <a:pt x="6264" y="11977"/>
                  <a:pt x="6398" y="11988"/>
                  <a:pt x="6474" y="11956"/>
                </a:cubicBezTo>
                <a:cubicBezTo>
                  <a:pt x="6514" y="11939"/>
                  <a:pt x="6540" y="11957"/>
                  <a:pt x="6573" y="11931"/>
                </a:cubicBezTo>
                <a:cubicBezTo>
                  <a:pt x="6606" y="11905"/>
                  <a:pt x="6603" y="11872"/>
                  <a:pt x="6623" y="11857"/>
                </a:cubicBezTo>
                <a:cubicBezTo>
                  <a:pt x="6649" y="11837"/>
                  <a:pt x="6641" y="11818"/>
                  <a:pt x="6672" y="11807"/>
                </a:cubicBezTo>
                <a:cubicBezTo>
                  <a:pt x="6699" y="11798"/>
                  <a:pt x="6742" y="11784"/>
                  <a:pt x="6747" y="11782"/>
                </a:cubicBezTo>
                <a:cubicBezTo>
                  <a:pt x="6796" y="11763"/>
                  <a:pt x="6842" y="11759"/>
                  <a:pt x="6896" y="11757"/>
                </a:cubicBezTo>
                <a:cubicBezTo>
                  <a:pt x="6945" y="11755"/>
                  <a:pt x="6995" y="11757"/>
                  <a:pt x="7045" y="11757"/>
                </a:cubicBezTo>
              </a:path>
              <a:path w="3896" h="5781">
                <a:moveTo>
                  <a:pt x="3696" y="12353"/>
                </a:moveTo>
                <a:cubicBezTo>
                  <a:pt x="3658" y="12366"/>
                  <a:pt x="3671" y="12382"/>
                  <a:pt x="3671" y="12427"/>
                </a:cubicBezTo>
                <a:cubicBezTo>
                  <a:pt x="3671" y="12452"/>
                  <a:pt x="3671" y="12460"/>
                  <a:pt x="3671" y="12477"/>
                </a:cubicBezTo>
                <a:cubicBezTo>
                  <a:pt x="3723" y="12477"/>
                  <a:pt x="3721" y="12479"/>
                  <a:pt x="3721" y="12427"/>
                </a:cubicBezTo>
                <a:cubicBezTo>
                  <a:pt x="3721" y="12402"/>
                  <a:pt x="3721" y="12394"/>
                  <a:pt x="3721" y="12427"/>
                </a:cubicBezTo>
              </a:path>
              <a:path w="3896" h="5781">
                <a:moveTo>
                  <a:pt x="6424" y="12452"/>
                </a:moveTo>
                <a:cubicBezTo>
                  <a:pt x="6398" y="12461"/>
                  <a:pt x="6379" y="12471"/>
                  <a:pt x="6375" y="12502"/>
                </a:cubicBezTo>
                <a:cubicBezTo>
                  <a:pt x="6371" y="12534"/>
                  <a:pt x="6375" y="12569"/>
                  <a:pt x="6375" y="12601"/>
                </a:cubicBezTo>
                <a:cubicBezTo>
                  <a:pt x="6414" y="12601"/>
                  <a:pt x="6444" y="12616"/>
                  <a:pt x="6449" y="12576"/>
                </a:cubicBezTo>
                <a:cubicBezTo>
                  <a:pt x="6453" y="12543"/>
                  <a:pt x="6504" y="12516"/>
                  <a:pt x="6474" y="12502"/>
                </a:cubicBezTo>
                <a:cubicBezTo>
                  <a:pt x="6446" y="12502"/>
                  <a:pt x="6435" y="12504"/>
                  <a:pt x="6424" y="12526"/>
                </a:cubicBezTo>
              </a:path>
            </a:pathLst>
          </a:custGeom>
          <a:noFill/>
          <a:ln cap="rnd" w="34920">
            <a:solidFill>
              <a:srgbClr val="6c86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828800" y="4114800"/>
            <a:ext cx="1509840" cy="274680"/>
          </a:xfrm>
          <a:custGeom>
            <a:avLst/>
            <a:gdLst/>
            <a:ahLst/>
            <a:rect l="l" t="t" r="r" b="b"/>
            <a:pathLst>
              <a:path w="4193" h="745">
                <a:moveTo>
                  <a:pt x="10567" y="11633"/>
                </a:moveTo>
                <a:cubicBezTo>
                  <a:pt x="10606" y="11643"/>
                  <a:pt x="10588" y="11651"/>
                  <a:pt x="10641" y="11658"/>
                </a:cubicBezTo>
                <a:cubicBezTo>
                  <a:pt x="11162" y="11723"/>
                  <a:pt x="11854" y="11535"/>
                  <a:pt x="12303" y="11609"/>
                </a:cubicBezTo>
                <a:cubicBezTo>
                  <a:pt x="12380" y="11622"/>
                  <a:pt x="12435" y="11722"/>
                  <a:pt x="12502" y="11757"/>
                </a:cubicBezTo>
                <a:cubicBezTo>
                  <a:pt x="12546" y="11780"/>
                  <a:pt x="12602" y="11768"/>
                  <a:pt x="12650" y="11782"/>
                </a:cubicBezTo>
                <a:cubicBezTo>
                  <a:pt x="12690" y="11794"/>
                  <a:pt x="12701" y="11805"/>
                  <a:pt x="12750" y="11807"/>
                </a:cubicBezTo>
                <a:cubicBezTo>
                  <a:pt x="13121" y="11818"/>
                  <a:pt x="13505" y="11810"/>
                  <a:pt x="13866" y="11782"/>
                </a:cubicBezTo>
                <a:cubicBezTo>
                  <a:pt x="14143" y="11761"/>
                  <a:pt x="14431" y="11782"/>
                  <a:pt x="14709" y="11782"/>
                </a:cubicBezTo>
                <a:cubicBezTo>
                  <a:pt x="14685" y="11747"/>
                  <a:pt x="14713" y="11716"/>
                  <a:pt x="14660" y="11683"/>
                </a:cubicBezTo>
                <a:cubicBezTo>
                  <a:pt x="14562" y="11622"/>
                  <a:pt x="14428" y="11570"/>
                  <a:pt x="14312" y="11559"/>
                </a:cubicBezTo>
                <a:cubicBezTo>
                  <a:pt x="14108" y="11540"/>
                  <a:pt x="13880" y="11567"/>
                  <a:pt x="13692" y="11584"/>
                </a:cubicBezTo>
                <a:cubicBezTo>
                  <a:pt x="13623" y="11590"/>
                  <a:pt x="13577" y="11593"/>
                  <a:pt x="13519" y="11609"/>
                </a:cubicBezTo>
                <a:cubicBezTo>
                  <a:pt x="13485" y="11619"/>
                  <a:pt x="13399" y="11657"/>
                  <a:pt x="13395" y="11658"/>
                </a:cubicBezTo>
                <a:cubicBezTo>
                  <a:pt x="13293" y="11682"/>
                  <a:pt x="13108" y="11673"/>
                  <a:pt x="13022" y="11633"/>
                </a:cubicBezTo>
                <a:cubicBezTo>
                  <a:pt x="12967" y="11607"/>
                  <a:pt x="12900" y="11560"/>
                  <a:pt x="12849" y="11534"/>
                </a:cubicBezTo>
                <a:cubicBezTo>
                  <a:pt x="12832" y="11525"/>
                  <a:pt x="12801" y="11495"/>
                  <a:pt x="12774" y="11485"/>
                </a:cubicBezTo>
                <a:cubicBezTo>
                  <a:pt x="12738" y="11471"/>
                  <a:pt x="12717" y="11464"/>
                  <a:pt x="12675" y="11460"/>
                </a:cubicBezTo>
                <a:cubicBezTo>
                  <a:pt x="12488" y="11440"/>
                  <a:pt x="12276" y="11466"/>
                  <a:pt x="12105" y="11485"/>
                </a:cubicBezTo>
                <a:cubicBezTo>
                  <a:pt x="11673" y="11533"/>
                  <a:pt x="11221" y="11471"/>
                  <a:pt x="10790" y="11509"/>
                </a:cubicBezTo>
                <a:cubicBezTo>
                  <a:pt x="10725" y="11515"/>
                  <a:pt x="10657" y="11509"/>
                  <a:pt x="10592" y="11509"/>
                </a:cubicBezTo>
                <a:cubicBezTo>
                  <a:pt x="10607" y="11559"/>
                  <a:pt x="10590" y="11555"/>
                  <a:pt x="10616" y="11584"/>
                </a:cubicBezTo>
                <a:cubicBezTo>
                  <a:pt x="10642" y="11613"/>
                  <a:pt x="10637" y="11604"/>
                  <a:pt x="10691" y="11609"/>
                </a:cubicBezTo>
                <a:cubicBezTo>
                  <a:pt x="10771" y="11617"/>
                  <a:pt x="10847" y="11593"/>
                  <a:pt x="10914" y="11633"/>
                </a:cubicBezTo>
                <a:cubicBezTo>
                  <a:pt x="10973" y="11668"/>
                  <a:pt x="10964" y="11677"/>
                  <a:pt x="10988" y="11733"/>
                </a:cubicBezTo>
                <a:cubicBezTo>
                  <a:pt x="10994" y="11748"/>
                  <a:pt x="11005" y="11821"/>
                  <a:pt x="11013" y="11832"/>
                </a:cubicBezTo>
                <a:cubicBezTo>
                  <a:pt x="11033" y="11860"/>
                  <a:pt x="11056" y="11866"/>
                  <a:pt x="11088" y="11881"/>
                </a:cubicBezTo>
                <a:cubicBezTo>
                  <a:pt x="11130" y="11900"/>
                  <a:pt x="11136" y="11903"/>
                  <a:pt x="11187" y="11906"/>
                </a:cubicBezTo>
                <a:cubicBezTo>
                  <a:pt x="11386" y="11919"/>
                  <a:pt x="11589" y="11912"/>
                  <a:pt x="11782" y="11931"/>
                </a:cubicBezTo>
                <a:cubicBezTo>
                  <a:pt x="11896" y="11942"/>
                  <a:pt x="12021" y="11945"/>
                  <a:pt x="12129" y="11956"/>
                </a:cubicBezTo>
                <a:cubicBezTo>
                  <a:pt x="12176" y="11961"/>
                  <a:pt x="12244" y="11978"/>
                  <a:pt x="12278" y="11981"/>
                </a:cubicBezTo>
                <a:cubicBezTo>
                  <a:pt x="13064" y="12055"/>
                  <a:pt x="13894" y="11981"/>
                  <a:pt x="14684" y="11981"/>
                </a:cubicBezTo>
                <a:cubicBezTo>
                  <a:pt x="14656" y="11923"/>
                  <a:pt x="14664" y="12040"/>
                  <a:pt x="14660" y="11956"/>
                </a:cubicBezTo>
                <a:cubicBezTo>
                  <a:pt x="14658" y="11923"/>
                  <a:pt x="14660" y="11890"/>
                  <a:pt x="14660" y="11857"/>
                </a:cubicBezTo>
                <a:cubicBezTo>
                  <a:pt x="14693" y="11857"/>
                  <a:pt x="14709" y="11902"/>
                  <a:pt x="14734" y="11881"/>
                </a:cubicBezTo>
                <a:cubicBezTo>
                  <a:pt x="14767" y="11853"/>
                  <a:pt x="14747" y="11861"/>
                  <a:pt x="14759" y="11807"/>
                </a:cubicBezTo>
                <a:cubicBezTo>
                  <a:pt x="14769" y="11762"/>
                  <a:pt x="14735" y="11713"/>
                  <a:pt x="14734" y="11708"/>
                </a:cubicBezTo>
                <a:cubicBezTo>
                  <a:pt x="14717" y="11555"/>
                  <a:pt x="14734" y="11391"/>
                  <a:pt x="14734" y="1123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303880" y="4044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4734" y="11237"/>
                </a:moveTo>
                <a:lnTo>
                  <a:pt x="14734" y="11237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8920" y="3009960"/>
            <a:ext cx="6618240" cy="401400"/>
          </a:xfrm>
          <a:custGeom>
            <a:avLst/>
            <a:gdLst/>
            <a:ahLst/>
            <a:rect l="l" t="t" r="r" b="b"/>
            <a:pathLst>
              <a:path w="18382" h="1117">
                <a:moveTo>
                  <a:pt x="21878" y="8706"/>
                </a:moveTo>
                <a:cubicBezTo>
                  <a:pt x="21831" y="8682"/>
                  <a:pt x="21760" y="8656"/>
                  <a:pt x="21704" y="8632"/>
                </a:cubicBezTo>
                <a:cubicBezTo>
                  <a:pt x="21673" y="8618"/>
                  <a:pt x="21670" y="8564"/>
                  <a:pt x="21654" y="8558"/>
                </a:cubicBezTo>
                <a:cubicBezTo>
                  <a:pt x="21619" y="8546"/>
                  <a:pt x="21592" y="8543"/>
                  <a:pt x="21555" y="8533"/>
                </a:cubicBezTo>
                <a:cubicBezTo>
                  <a:pt x="21524" y="8524"/>
                  <a:pt x="21385" y="8508"/>
                  <a:pt x="21382" y="8508"/>
                </a:cubicBezTo>
                <a:cubicBezTo>
                  <a:pt x="21007" y="8464"/>
                  <a:pt x="20618" y="8530"/>
                  <a:pt x="20241" y="8533"/>
                </a:cubicBezTo>
                <a:cubicBezTo>
                  <a:pt x="19808" y="8537"/>
                  <a:pt x="19408" y="8513"/>
                  <a:pt x="19000" y="8632"/>
                </a:cubicBezTo>
                <a:cubicBezTo>
                  <a:pt x="18925" y="8654"/>
                  <a:pt x="18776" y="8734"/>
                  <a:pt x="18703" y="8731"/>
                </a:cubicBezTo>
                <a:cubicBezTo>
                  <a:pt x="18180" y="8713"/>
                  <a:pt x="17661" y="8461"/>
                  <a:pt x="17115" y="8533"/>
                </a:cubicBezTo>
                <a:cubicBezTo>
                  <a:pt x="16952" y="8555"/>
                  <a:pt x="16880" y="8578"/>
                  <a:pt x="16718" y="8632"/>
                </a:cubicBezTo>
                <a:cubicBezTo>
                  <a:pt x="16503" y="8704"/>
                  <a:pt x="16386" y="8788"/>
                  <a:pt x="16197" y="8930"/>
                </a:cubicBezTo>
                <a:cubicBezTo>
                  <a:pt x="16030" y="9056"/>
                  <a:pt x="15846" y="9293"/>
                  <a:pt x="15652" y="9376"/>
                </a:cubicBezTo>
                <a:cubicBezTo>
                  <a:pt x="15501" y="9441"/>
                  <a:pt x="15248" y="9411"/>
                  <a:pt x="15081" y="9426"/>
                </a:cubicBezTo>
                <a:cubicBezTo>
                  <a:pt x="14885" y="9443"/>
                  <a:pt x="14844" y="9407"/>
                  <a:pt x="14709" y="9327"/>
                </a:cubicBezTo>
                <a:cubicBezTo>
                  <a:pt x="14621" y="9275"/>
                  <a:pt x="14537" y="9157"/>
                  <a:pt x="14436" y="9103"/>
                </a:cubicBezTo>
                <a:cubicBezTo>
                  <a:pt x="14365" y="9065"/>
                  <a:pt x="14286" y="9035"/>
                  <a:pt x="14213" y="9004"/>
                </a:cubicBezTo>
                <a:cubicBezTo>
                  <a:pt x="14047" y="8933"/>
                  <a:pt x="13948" y="8884"/>
                  <a:pt x="13767" y="8855"/>
                </a:cubicBezTo>
                <a:cubicBezTo>
                  <a:pt x="13557" y="8822"/>
                  <a:pt x="13363" y="8881"/>
                  <a:pt x="13171" y="8930"/>
                </a:cubicBezTo>
                <a:cubicBezTo>
                  <a:pt x="13095" y="8949"/>
                  <a:pt x="13020" y="8983"/>
                  <a:pt x="12948" y="9004"/>
                </a:cubicBezTo>
                <a:cubicBezTo>
                  <a:pt x="12808" y="9044"/>
                  <a:pt x="12672" y="9102"/>
                  <a:pt x="12526" y="9128"/>
                </a:cubicBezTo>
                <a:cubicBezTo>
                  <a:pt x="12394" y="9152"/>
                  <a:pt x="12235" y="9169"/>
                  <a:pt x="12105" y="9178"/>
                </a:cubicBezTo>
                <a:cubicBezTo>
                  <a:pt x="11904" y="9192"/>
                  <a:pt x="11645" y="9199"/>
                  <a:pt x="11460" y="9153"/>
                </a:cubicBezTo>
                <a:cubicBezTo>
                  <a:pt x="11299" y="9113"/>
                  <a:pt x="11088" y="9032"/>
                  <a:pt x="10914" y="8979"/>
                </a:cubicBezTo>
                <a:cubicBezTo>
                  <a:pt x="10780" y="8938"/>
                  <a:pt x="10622" y="8917"/>
                  <a:pt x="10517" y="8830"/>
                </a:cubicBezTo>
                <a:cubicBezTo>
                  <a:pt x="10482" y="8801"/>
                  <a:pt x="10453" y="8792"/>
                  <a:pt x="10418" y="8756"/>
                </a:cubicBezTo>
                <a:cubicBezTo>
                  <a:pt x="10370" y="8706"/>
                  <a:pt x="10465" y="8634"/>
                  <a:pt x="10418" y="8582"/>
                </a:cubicBezTo>
                <a:cubicBezTo>
                  <a:pt x="10418" y="8590"/>
                  <a:pt x="10418" y="8599"/>
                  <a:pt x="10418" y="8607"/>
                </a:cubicBezTo>
                <a:cubicBezTo>
                  <a:pt x="10406" y="8613"/>
                  <a:pt x="10409" y="8721"/>
                  <a:pt x="10368" y="8731"/>
                </a:cubicBezTo>
                <a:cubicBezTo>
                  <a:pt x="10324" y="8742"/>
                  <a:pt x="10327" y="8751"/>
                  <a:pt x="10294" y="8756"/>
                </a:cubicBezTo>
                <a:cubicBezTo>
                  <a:pt x="10061" y="8789"/>
                  <a:pt x="9979" y="8695"/>
                  <a:pt x="9823" y="8632"/>
                </a:cubicBezTo>
                <a:cubicBezTo>
                  <a:pt x="9782" y="8616"/>
                  <a:pt x="9777" y="8575"/>
                  <a:pt x="9723" y="8558"/>
                </a:cubicBezTo>
                <a:cubicBezTo>
                  <a:pt x="9669" y="8540"/>
                  <a:pt x="9612" y="8522"/>
                  <a:pt x="9550" y="8508"/>
                </a:cubicBezTo>
                <a:cubicBezTo>
                  <a:pt x="9428" y="8481"/>
                  <a:pt x="9298" y="8514"/>
                  <a:pt x="9178" y="8483"/>
                </a:cubicBezTo>
                <a:cubicBezTo>
                  <a:pt x="9155" y="8477"/>
                  <a:pt x="9101" y="8391"/>
                  <a:pt x="9054" y="8384"/>
                </a:cubicBezTo>
                <a:cubicBezTo>
                  <a:pt x="8510" y="8298"/>
                  <a:pt x="7933" y="8449"/>
                  <a:pt x="7392" y="8458"/>
                </a:cubicBezTo>
                <a:cubicBezTo>
                  <a:pt x="7208" y="8461"/>
                  <a:pt x="6914" y="8480"/>
                  <a:pt x="6772" y="8483"/>
                </a:cubicBezTo>
                <a:cubicBezTo>
                  <a:pt x="6490" y="8490"/>
                  <a:pt x="6200" y="8466"/>
                  <a:pt x="5928" y="8508"/>
                </a:cubicBezTo>
                <a:cubicBezTo>
                  <a:pt x="5690" y="8545"/>
                  <a:pt x="5625" y="8582"/>
                  <a:pt x="5333" y="8533"/>
                </a:cubicBezTo>
                <a:cubicBezTo>
                  <a:pt x="5228" y="8515"/>
                  <a:pt x="5142" y="8471"/>
                  <a:pt x="5035" y="8458"/>
                </a:cubicBezTo>
                <a:cubicBezTo>
                  <a:pt x="4879" y="8439"/>
                  <a:pt x="4722" y="8433"/>
                  <a:pt x="4564" y="8434"/>
                </a:cubicBezTo>
                <a:cubicBezTo>
                  <a:pt x="4389" y="8435"/>
                  <a:pt x="4229" y="8510"/>
                  <a:pt x="4068" y="8508"/>
                </a:cubicBezTo>
                <a:cubicBezTo>
                  <a:pt x="3887" y="8506"/>
                  <a:pt x="3686" y="8466"/>
                  <a:pt x="3497" y="8458"/>
                </a:cubicBezTo>
                <a:cubicBezTo>
                  <a:pt x="3497" y="8648"/>
                  <a:pt x="3497" y="8839"/>
                  <a:pt x="3497" y="9029"/>
                </a:cubicBezTo>
                <a:cubicBezTo>
                  <a:pt x="3550" y="9002"/>
                  <a:pt x="3570" y="9011"/>
                  <a:pt x="3621" y="8979"/>
                </a:cubicBezTo>
                <a:cubicBezTo>
                  <a:pt x="3652" y="8959"/>
                  <a:pt x="3636" y="8916"/>
                  <a:pt x="3671" y="8905"/>
                </a:cubicBezTo>
                <a:cubicBezTo>
                  <a:pt x="3703" y="8895"/>
                  <a:pt x="3688" y="8862"/>
                  <a:pt x="3721" y="8855"/>
                </a:cubicBezTo>
                <a:cubicBezTo>
                  <a:pt x="3876" y="8822"/>
                  <a:pt x="3946" y="8906"/>
                  <a:pt x="4068" y="8930"/>
                </a:cubicBezTo>
                <a:cubicBezTo>
                  <a:pt x="4107" y="8938"/>
                  <a:pt x="4131" y="8947"/>
                  <a:pt x="4167" y="8954"/>
                </a:cubicBezTo>
                <a:cubicBezTo>
                  <a:pt x="4252" y="8971"/>
                  <a:pt x="4332" y="8994"/>
                  <a:pt x="4440" y="9004"/>
                </a:cubicBezTo>
                <a:cubicBezTo>
                  <a:pt x="5371" y="9094"/>
                  <a:pt x="6367" y="9009"/>
                  <a:pt x="7268" y="8855"/>
                </a:cubicBezTo>
                <a:cubicBezTo>
                  <a:pt x="7473" y="8820"/>
                  <a:pt x="7637" y="8778"/>
                  <a:pt x="7838" y="8830"/>
                </a:cubicBezTo>
                <a:cubicBezTo>
                  <a:pt x="7913" y="8849"/>
                  <a:pt x="8051" y="8952"/>
                  <a:pt x="8161" y="8979"/>
                </a:cubicBezTo>
                <a:cubicBezTo>
                  <a:pt x="8464" y="9054"/>
                  <a:pt x="8773" y="9003"/>
                  <a:pt x="9079" y="9054"/>
                </a:cubicBezTo>
                <a:cubicBezTo>
                  <a:pt x="9115" y="9060"/>
                  <a:pt x="9189" y="9123"/>
                  <a:pt x="9227" y="9128"/>
                </a:cubicBezTo>
                <a:cubicBezTo>
                  <a:pt x="9319" y="9139"/>
                  <a:pt x="9409" y="9142"/>
                  <a:pt x="9500" y="9153"/>
                </a:cubicBezTo>
                <a:cubicBezTo>
                  <a:pt x="9586" y="9163"/>
                  <a:pt x="9660" y="9173"/>
                  <a:pt x="9748" y="9178"/>
                </a:cubicBezTo>
                <a:cubicBezTo>
                  <a:pt x="10103" y="9199"/>
                  <a:pt x="10371" y="9149"/>
                  <a:pt x="10691" y="9029"/>
                </a:cubicBezTo>
                <a:cubicBezTo>
                  <a:pt x="10741" y="9010"/>
                  <a:pt x="10760" y="8996"/>
                  <a:pt x="10815" y="8979"/>
                </a:cubicBezTo>
                <a:cubicBezTo>
                  <a:pt x="10888" y="8957"/>
                  <a:pt x="10963" y="8927"/>
                  <a:pt x="11038" y="8905"/>
                </a:cubicBezTo>
                <a:cubicBezTo>
                  <a:pt x="11111" y="8884"/>
                  <a:pt x="11195" y="8880"/>
                  <a:pt x="11261" y="8855"/>
                </a:cubicBezTo>
                <a:cubicBezTo>
                  <a:pt x="11286" y="8845"/>
                  <a:pt x="11298" y="8811"/>
                  <a:pt x="11311" y="8806"/>
                </a:cubicBezTo>
                <a:cubicBezTo>
                  <a:pt x="11287" y="8796"/>
                  <a:pt x="11271" y="8701"/>
                  <a:pt x="11162" y="8682"/>
                </a:cubicBezTo>
                <a:cubicBezTo>
                  <a:pt x="10903" y="8637"/>
                  <a:pt x="10653" y="8596"/>
                  <a:pt x="10393" y="8558"/>
                </a:cubicBezTo>
                <a:cubicBezTo>
                  <a:pt x="9804" y="8472"/>
                  <a:pt x="9179" y="8533"/>
                  <a:pt x="8582" y="8533"/>
                </a:cubicBezTo>
                <a:cubicBezTo>
                  <a:pt x="8637" y="8548"/>
                  <a:pt x="8550" y="8630"/>
                  <a:pt x="8706" y="8632"/>
                </a:cubicBezTo>
                <a:cubicBezTo>
                  <a:pt x="9052" y="8636"/>
                  <a:pt x="9377" y="8626"/>
                  <a:pt x="9723" y="8657"/>
                </a:cubicBezTo>
                <a:cubicBezTo>
                  <a:pt x="10000" y="8682"/>
                  <a:pt x="10275" y="8661"/>
                  <a:pt x="10542" y="8657"/>
                </a:cubicBezTo>
                <a:cubicBezTo>
                  <a:pt x="10706" y="8654"/>
                  <a:pt x="10939" y="8642"/>
                  <a:pt x="11063" y="8632"/>
                </a:cubicBezTo>
                <a:cubicBezTo>
                  <a:pt x="10983" y="8619"/>
                  <a:pt x="10878" y="8598"/>
                  <a:pt x="10790" y="8582"/>
                </a:cubicBezTo>
                <a:cubicBezTo>
                  <a:pt x="10728" y="8571"/>
                  <a:pt x="10559" y="8577"/>
                  <a:pt x="10542" y="8533"/>
                </a:cubicBezTo>
                <a:cubicBezTo>
                  <a:pt x="10521" y="8481"/>
                  <a:pt x="10473" y="8589"/>
                  <a:pt x="10542" y="8533"/>
                </a:cubicBezTo>
                <a:cubicBezTo>
                  <a:pt x="10602" y="8484"/>
                  <a:pt x="10662" y="8481"/>
                  <a:pt x="10740" y="8483"/>
                </a:cubicBezTo>
                <a:cubicBezTo>
                  <a:pt x="10871" y="8487"/>
                  <a:pt x="10981" y="8556"/>
                  <a:pt x="11063" y="8558"/>
                </a:cubicBezTo>
                <a:cubicBezTo>
                  <a:pt x="11140" y="8560"/>
                  <a:pt x="11276" y="8533"/>
                  <a:pt x="11311" y="8533"/>
                </a:cubicBezTo>
                <a:cubicBezTo>
                  <a:pt x="11310" y="8533"/>
                  <a:pt x="11203" y="8509"/>
                  <a:pt x="11162" y="8508"/>
                </a:cubicBezTo>
                <a:cubicBezTo>
                  <a:pt x="10773" y="8503"/>
                  <a:pt x="10337" y="8552"/>
                  <a:pt x="9971" y="8458"/>
                </a:cubicBezTo>
                <a:cubicBezTo>
                  <a:pt x="9929" y="8447"/>
                  <a:pt x="9952" y="8421"/>
                  <a:pt x="9897" y="8409"/>
                </a:cubicBezTo>
                <a:cubicBezTo>
                  <a:pt x="9884" y="8406"/>
                  <a:pt x="9878" y="8364"/>
                  <a:pt x="9847" y="8359"/>
                </a:cubicBezTo>
                <a:cubicBezTo>
                  <a:pt x="9627" y="8325"/>
                  <a:pt x="9431" y="8402"/>
                  <a:pt x="9227" y="8434"/>
                </a:cubicBezTo>
                <a:cubicBezTo>
                  <a:pt x="9167" y="8443"/>
                  <a:pt x="9055" y="8453"/>
                  <a:pt x="9029" y="8458"/>
                </a:cubicBezTo>
                <a:cubicBezTo>
                  <a:pt x="9607" y="8458"/>
                  <a:pt x="10193" y="8493"/>
                  <a:pt x="10765" y="8483"/>
                </a:cubicBezTo>
                <a:cubicBezTo>
                  <a:pt x="10809" y="8482"/>
                  <a:pt x="10825" y="8459"/>
                  <a:pt x="10864" y="8458"/>
                </a:cubicBezTo>
                <a:cubicBezTo>
                  <a:pt x="11040" y="8455"/>
                  <a:pt x="11237" y="8495"/>
                  <a:pt x="11361" y="8508"/>
                </a:cubicBezTo>
                <a:cubicBezTo>
                  <a:pt x="11429" y="8515"/>
                  <a:pt x="11394" y="8530"/>
                  <a:pt x="11460" y="8533"/>
                </a:cubicBezTo>
                <a:cubicBezTo>
                  <a:pt x="11551" y="8537"/>
                  <a:pt x="11714" y="8504"/>
                  <a:pt x="11733" y="8533"/>
                </a:cubicBezTo>
                <a:cubicBezTo>
                  <a:pt x="11762" y="8576"/>
                  <a:pt x="11760" y="8699"/>
                  <a:pt x="11757" y="8756"/>
                </a:cubicBezTo>
                <a:cubicBezTo>
                  <a:pt x="11748" y="8901"/>
                  <a:pt x="11658" y="9012"/>
                  <a:pt x="11584" y="9079"/>
                </a:cubicBezTo>
                <a:cubicBezTo>
                  <a:pt x="11555" y="9105"/>
                  <a:pt x="11455" y="9170"/>
                  <a:pt x="11435" y="9178"/>
                </a:cubicBezTo>
                <a:cubicBezTo>
                  <a:pt x="11282" y="9237"/>
                  <a:pt x="11059" y="9185"/>
                  <a:pt x="10939" y="9178"/>
                </a:cubicBezTo>
                <a:cubicBezTo>
                  <a:pt x="10901" y="9176"/>
                  <a:pt x="10882" y="9157"/>
                  <a:pt x="10840" y="9153"/>
                </a:cubicBezTo>
                <a:cubicBezTo>
                  <a:pt x="10832" y="9153"/>
                  <a:pt x="10823" y="9153"/>
                  <a:pt x="10815" y="9153"/>
                </a:cubicBezTo>
                <a:cubicBezTo>
                  <a:pt x="10766" y="9214"/>
                  <a:pt x="10809" y="9316"/>
                  <a:pt x="10740" y="9351"/>
                </a:cubicBezTo>
                <a:cubicBezTo>
                  <a:pt x="10691" y="9376"/>
                  <a:pt x="10600" y="9358"/>
                  <a:pt x="10567" y="9376"/>
                </a:cubicBezTo>
                <a:cubicBezTo>
                  <a:pt x="10607" y="9366"/>
                  <a:pt x="10628" y="9416"/>
                  <a:pt x="10666" y="9401"/>
                </a:cubicBezTo>
                <a:cubicBezTo>
                  <a:pt x="10738" y="9372"/>
                  <a:pt x="10840" y="9296"/>
                  <a:pt x="10914" y="9277"/>
                </a:cubicBezTo>
                <a:cubicBezTo>
                  <a:pt x="11148" y="9217"/>
                  <a:pt x="11328" y="9213"/>
                  <a:pt x="11559" y="9277"/>
                </a:cubicBezTo>
                <a:cubicBezTo>
                  <a:pt x="11699" y="9316"/>
                  <a:pt x="11846" y="9411"/>
                  <a:pt x="11981" y="9451"/>
                </a:cubicBezTo>
                <a:cubicBezTo>
                  <a:pt x="11999" y="9456"/>
                  <a:pt x="12085" y="9462"/>
                  <a:pt x="12129" y="9475"/>
                </a:cubicBezTo>
                <a:cubicBezTo>
                  <a:pt x="12122" y="9422"/>
                  <a:pt x="12112" y="9338"/>
                  <a:pt x="12105" y="9252"/>
                </a:cubicBezTo>
                <a:cubicBezTo>
                  <a:pt x="12093" y="9092"/>
                  <a:pt x="12067" y="8931"/>
                  <a:pt x="12030" y="8781"/>
                </a:cubicBezTo>
                <a:cubicBezTo>
                  <a:pt x="12018" y="8733"/>
                  <a:pt x="11961" y="8625"/>
                  <a:pt x="11956" y="8607"/>
                </a:cubicBezTo>
                <a:cubicBezTo>
                  <a:pt x="11956" y="8599"/>
                  <a:pt x="11956" y="8590"/>
                  <a:pt x="11956" y="8582"/>
                </a:cubicBezTo>
                <a:cubicBezTo>
                  <a:pt x="11944" y="8597"/>
                  <a:pt x="11868" y="8608"/>
                  <a:pt x="11857" y="8632"/>
                </a:cubicBezTo>
                <a:cubicBezTo>
                  <a:pt x="11841" y="8667"/>
                  <a:pt x="11850" y="8722"/>
                  <a:pt x="11832" y="8756"/>
                </a:cubicBezTo>
                <a:cubicBezTo>
                  <a:pt x="11825" y="8771"/>
                  <a:pt x="11797" y="8826"/>
                  <a:pt x="11782" y="8855"/>
                </a:cubicBezTo>
                <a:cubicBezTo>
                  <a:pt x="11818" y="8838"/>
                  <a:pt x="11821" y="8849"/>
                  <a:pt x="11857" y="8830"/>
                </a:cubicBezTo>
                <a:cubicBezTo>
                  <a:pt x="11883" y="8816"/>
                  <a:pt x="11895" y="8798"/>
                  <a:pt x="11931" y="8781"/>
                </a:cubicBezTo>
                <a:cubicBezTo>
                  <a:pt x="12000" y="8748"/>
                  <a:pt x="12063" y="8707"/>
                  <a:pt x="12129" y="8682"/>
                </a:cubicBezTo>
                <a:cubicBezTo>
                  <a:pt x="12175" y="8665"/>
                  <a:pt x="12230" y="8674"/>
                  <a:pt x="12278" y="8657"/>
                </a:cubicBezTo>
                <a:cubicBezTo>
                  <a:pt x="12337" y="8723"/>
                  <a:pt x="12209" y="8843"/>
                  <a:pt x="12328" y="8880"/>
                </a:cubicBezTo>
                <a:cubicBezTo>
                  <a:pt x="12373" y="8894"/>
                  <a:pt x="12407" y="8893"/>
                  <a:pt x="12452" y="8905"/>
                </a:cubicBezTo>
                <a:cubicBezTo>
                  <a:pt x="12669" y="8964"/>
                  <a:pt x="12992" y="8905"/>
                  <a:pt x="13221" y="890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258920" y="3027240"/>
            <a:ext cx="6599160" cy="509760"/>
          </a:xfrm>
          <a:custGeom>
            <a:avLst/>
            <a:gdLst/>
            <a:ahLst/>
            <a:rect l="l" t="t" r="r" b="b"/>
            <a:pathLst>
              <a:path w="18332" h="1415">
                <a:moveTo>
                  <a:pt x="13221" y="8905"/>
                </a:moveTo>
                <a:cubicBezTo>
                  <a:pt x="13204" y="8925"/>
                  <a:pt x="13138" y="8959"/>
                  <a:pt x="13122" y="8979"/>
                </a:cubicBezTo>
                <a:cubicBezTo>
                  <a:pt x="13084" y="9026"/>
                  <a:pt x="13059" y="9081"/>
                  <a:pt x="13022" y="9128"/>
                </a:cubicBezTo>
                <a:cubicBezTo>
                  <a:pt x="12993" y="9165"/>
                  <a:pt x="12940" y="9257"/>
                  <a:pt x="12898" y="9302"/>
                </a:cubicBezTo>
                <a:cubicBezTo>
                  <a:pt x="12872" y="9330"/>
                  <a:pt x="12836" y="9362"/>
                  <a:pt x="12824" y="9376"/>
                </a:cubicBezTo>
                <a:cubicBezTo>
                  <a:pt x="12810" y="9392"/>
                  <a:pt x="12781" y="9442"/>
                  <a:pt x="12774" y="9451"/>
                </a:cubicBezTo>
                <a:cubicBezTo>
                  <a:pt x="12760" y="9470"/>
                  <a:pt x="12714" y="9479"/>
                  <a:pt x="12700" y="9500"/>
                </a:cubicBezTo>
                <a:cubicBezTo>
                  <a:pt x="12686" y="9520"/>
                  <a:pt x="12655" y="9583"/>
                  <a:pt x="12626" y="9624"/>
                </a:cubicBezTo>
                <a:cubicBezTo>
                  <a:pt x="12608" y="9650"/>
                  <a:pt x="12616" y="9676"/>
                  <a:pt x="12601" y="9699"/>
                </a:cubicBezTo>
                <a:cubicBezTo>
                  <a:pt x="12601" y="9723"/>
                  <a:pt x="12601" y="9731"/>
                  <a:pt x="12601" y="9699"/>
                </a:cubicBezTo>
                <a:cubicBezTo>
                  <a:pt x="12570" y="9630"/>
                  <a:pt x="12596" y="9567"/>
                  <a:pt x="12551" y="9500"/>
                </a:cubicBezTo>
                <a:cubicBezTo>
                  <a:pt x="12537" y="9479"/>
                  <a:pt x="12496" y="9460"/>
                  <a:pt x="12477" y="9426"/>
                </a:cubicBezTo>
                <a:cubicBezTo>
                  <a:pt x="12460" y="9396"/>
                  <a:pt x="12453" y="9391"/>
                  <a:pt x="12427" y="9351"/>
                </a:cubicBezTo>
                <a:cubicBezTo>
                  <a:pt x="12476" y="9342"/>
                  <a:pt x="12479" y="9366"/>
                  <a:pt x="12526" y="9351"/>
                </a:cubicBezTo>
                <a:cubicBezTo>
                  <a:pt x="12583" y="9334"/>
                  <a:pt x="12649" y="9284"/>
                  <a:pt x="12700" y="9277"/>
                </a:cubicBezTo>
                <a:cubicBezTo>
                  <a:pt x="12812" y="9261"/>
                  <a:pt x="12957" y="9236"/>
                  <a:pt x="13047" y="9277"/>
                </a:cubicBezTo>
                <a:cubicBezTo>
                  <a:pt x="13086" y="9295"/>
                  <a:pt x="13054" y="9370"/>
                  <a:pt x="13097" y="9376"/>
                </a:cubicBezTo>
                <a:cubicBezTo>
                  <a:pt x="13102" y="9377"/>
                  <a:pt x="13095" y="9447"/>
                  <a:pt x="13171" y="9451"/>
                </a:cubicBezTo>
                <a:cubicBezTo>
                  <a:pt x="13225" y="9454"/>
                  <a:pt x="13280" y="9379"/>
                  <a:pt x="13345" y="9376"/>
                </a:cubicBezTo>
                <a:cubicBezTo>
                  <a:pt x="13384" y="9374"/>
                  <a:pt x="13400" y="9353"/>
                  <a:pt x="13444" y="9351"/>
                </a:cubicBezTo>
                <a:cubicBezTo>
                  <a:pt x="14136" y="9322"/>
                  <a:pt x="14835" y="9351"/>
                  <a:pt x="15528" y="9351"/>
                </a:cubicBezTo>
                <a:cubicBezTo>
                  <a:pt x="15496" y="9299"/>
                  <a:pt x="15522" y="9219"/>
                  <a:pt x="15478" y="9178"/>
                </a:cubicBezTo>
                <a:cubicBezTo>
                  <a:pt x="15426" y="9129"/>
                  <a:pt x="15397" y="9105"/>
                  <a:pt x="15354" y="9054"/>
                </a:cubicBezTo>
                <a:cubicBezTo>
                  <a:pt x="15313" y="9005"/>
                  <a:pt x="15280" y="9019"/>
                  <a:pt x="15255" y="8979"/>
                </a:cubicBezTo>
                <a:cubicBezTo>
                  <a:pt x="15251" y="8972"/>
                  <a:pt x="15182" y="8935"/>
                  <a:pt x="15180" y="8930"/>
                </a:cubicBezTo>
                <a:cubicBezTo>
                  <a:pt x="15156" y="8871"/>
                  <a:pt x="15172" y="8877"/>
                  <a:pt x="15156" y="8806"/>
                </a:cubicBezTo>
                <a:cubicBezTo>
                  <a:pt x="15135" y="8714"/>
                  <a:pt x="15158" y="8600"/>
                  <a:pt x="15180" y="8533"/>
                </a:cubicBezTo>
                <a:cubicBezTo>
                  <a:pt x="15183" y="8525"/>
                  <a:pt x="15221" y="8503"/>
                  <a:pt x="15230" y="8483"/>
                </a:cubicBezTo>
                <a:cubicBezTo>
                  <a:pt x="15255" y="8483"/>
                  <a:pt x="15263" y="8483"/>
                  <a:pt x="15280" y="8483"/>
                </a:cubicBezTo>
                <a:cubicBezTo>
                  <a:pt x="15251" y="8614"/>
                  <a:pt x="15302" y="8705"/>
                  <a:pt x="15230" y="8806"/>
                </a:cubicBezTo>
                <a:cubicBezTo>
                  <a:pt x="15201" y="8848"/>
                  <a:pt x="15231" y="8838"/>
                  <a:pt x="15180" y="8880"/>
                </a:cubicBezTo>
                <a:cubicBezTo>
                  <a:pt x="15168" y="8890"/>
                  <a:pt x="15141" y="8949"/>
                  <a:pt x="15131" y="8954"/>
                </a:cubicBezTo>
                <a:cubicBezTo>
                  <a:pt x="15021" y="9010"/>
                  <a:pt x="14715" y="8972"/>
                  <a:pt x="14610" y="8979"/>
                </a:cubicBezTo>
                <a:cubicBezTo>
                  <a:pt x="14585" y="8981"/>
                  <a:pt x="14561" y="8977"/>
                  <a:pt x="14536" y="8979"/>
                </a:cubicBezTo>
                <a:cubicBezTo>
                  <a:pt x="14582" y="8960"/>
                  <a:pt x="14664" y="8901"/>
                  <a:pt x="14734" y="8880"/>
                </a:cubicBezTo>
                <a:cubicBezTo>
                  <a:pt x="14786" y="8865"/>
                  <a:pt x="14829" y="8840"/>
                  <a:pt x="14883" y="8830"/>
                </a:cubicBezTo>
                <a:cubicBezTo>
                  <a:pt x="14929" y="8821"/>
                  <a:pt x="14954" y="8813"/>
                  <a:pt x="15007" y="8806"/>
                </a:cubicBezTo>
                <a:cubicBezTo>
                  <a:pt x="15294" y="8767"/>
                  <a:pt x="15561" y="8837"/>
                  <a:pt x="15801" y="8880"/>
                </a:cubicBezTo>
                <a:cubicBezTo>
                  <a:pt x="15840" y="8887"/>
                  <a:pt x="15903" y="8919"/>
                  <a:pt x="15949" y="8930"/>
                </a:cubicBezTo>
                <a:cubicBezTo>
                  <a:pt x="16166" y="8981"/>
                  <a:pt x="16426" y="9056"/>
                  <a:pt x="16644" y="9079"/>
                </a:cubicBezTo>
                <a:cubicBezTo>
                  <a:pt x="17292" y="9146"/>
                  <a:pt x="18456" y="9271"/>
                  <a:pt x="19050" y="9029"/>
                </a:cubicBezTo>
                <a:cubicBezTo>
                  <a:pt x="19137" y="8993"/>
                  <a:pt x="19259" y="8928"/>
                  <a:pt x="19298" y="8855"/>
                </a:cubicBezTo>
                <a:cubicBezTo>
                  <a:pt x="19317" y="8818"/>
                  <a:pt x="19342" y="8799"/>
                  <a:pt x="19348" y="8756"/>
                </a:cubicBezTo>
                <a:cubicBezTo>
                  <a:pt x="19370" y="8607"/>
                  <a:pt x="19321" y="8586"/>
                  <a:pt x="19248" y="8508"/>
                </a:cubicBezTo>
                <a:cubicBezTo>
                  <a:pt x="19234" y="8493"/>
                  <a:pt x="19189" y="8439"/>
                  <a:pt x="19174" y="8434"/>
                </a:cubicBezTo>
                <a:cubicBezTo>
                  <a:pt x="19136" y="8421"/>
                  <a:pt x="19153" y="8412"/>
                  <a:pt x="19100" y="8409"/>
                </a:cubicBezTo>
                <a:cubicBezTo>
                  <a:pt x="19067" y="8407"/>
                  <a:pt x="19060" y="8457"/>
                  <a:pt x="19050" y="8458"/>
                </a:cubicBezTo>
                <a:cubicBezTo>
                  <a:pt x="19012" y="8460"/>
                  <a:pt x="19021" y="8502"/>
                  <a:pt x="18976" y="8508"/>
                </a:cubicBezTo>
                <a:cubicBezTo>
                  <a:pt x="18932" y="8514"/>
                  <a:pt x="18880" y="8553"/>
                  <a:pt x="18852" y="8558"/>
                </a:cubicBezTo>
                <a:cubicBezTo>
                  <a:pt x="18812" y="8565"/>
                  <a:pt x="18767" y="8548"/>
                  <a:pt x="18728" y="8558"/>
                </a:cubicBezTo>
                <a:cubicBezTo>
                  <a:pt x="18775" y="8578"/>
                  <a:pt x="18780" y="8561"/>
                  <a:pt x="18827" y="8582"/>
                </a:cubicBezTo>
                <a:cubicBezTo>
                  <a:pt x="18892" y="8611"/>
                  <a:pt x="18967" y="8624"/>
                  <a:pt x="19025" y="8657"/>
                </a:cubicBezTo>
                <a:cubicBezTo>
                  <a:pt x="19062" y="8678"/>
                  <a:pt x="19088" y="8734"/>
                  <a:pt x="19124" y="8756"/>
                </a:cubicBezTo>
                <a:cubicBezTo>
                  <a:pt x="19201" y="8803"/>
                  <a:pt x="19271" y="8863"/>
                  <a:pt x="19348" y="8905"/>
                </a:cubicBezTo>
                <a:cubicBezTo>
                  <a:pt x="19406" y="8937"/>
                  <a:pt x="19464" y="8949"/>
                  <a:pt x="19521" y="8979"/>
                </a:cubicBezTo>
                <a:cubicBezTo>
                  <a:pt x="19534" y="8986"/>
                  <a:pt x="19563" y="9016"/>
                  <a:pt x="19596" y="9029"/>
                </a:cubicBezTo>
                <a:cubicBezTo>
                  <a:pt x="19675" y="9059"/>
                  <a:pt x="19704" y="9087"/>
                  <a:pt x="19794" y="9103"/>
                </a:cubicBezTo>
                <a:cubicBezTo>
                  <a:pt x="20285" y="9192"/>
                  <a:pt x="20876" y="9096"/>
                  <a:pt x="21332" y="8979"/>
                </a:cubicBezTo>
                <a:cubicBezTo>
                  <a:pt x="21373" y="8969"/>
                  <a:pt x="21471" y="8907"/>
                  <a:pt x="21481" y="8905"/>
                </a:cubicBezTo>
                <a:cubicBezTo>
                  <a:pt x="21593" y="8886"/>
                  <a:pt x="21715" y="8917"/>
                  <a:pt x="21828" y="8905"/>
                </a:cubicBezTo>
                <a:cubicBezTo>
                  <a:pt x="21816" y="8930"/>
                  <a:pt x="21736" y="8934"/>
                  <a:pt x="21729" y="8954"/>
                </a:cubicBezTo>
                <a:cubicBezTo>
                  <a:pt x="21710" y="9009"/>
                  <a:pt x="21686" y="9059"/>
                  <a:pt x="21679" y="9153"/>
                </a:cubicBezTo>
                <a:cubicBezTo>
                  <a:pt x="21671" y="9255"/>
                  <a:pt x="21722" y="9305"/>
                  <a:pt x="21729" y="9351"/>
                </a:cubicBezTo>
                <a:cubicBezTo>
                  <a:pt x="21736" y="9392"/>
                  <a:pt x="21745" y="9413"/>
                  <a:pt x="21754" y="9451"/>
                </a:cubicBezTo>
                <a:cubicBezTo>
                  <a:pt x="21754" y="9475"/>
                  <a:pt x="21754" y="9483"/>
                  <a:pt x="21779" y="9475"/>
                </a:cubicBezTo>
                <a:cubicBezTo>
                  <a:pt x="21714" y="9483"/>
                  <a:pt x="21669" y="9520"/>
                  <a:pt x="21605" y="9525"/>
                </a:cubicBezTo>
                <a:cubicBezTo>
                  <a:pt x="21396" y="9541"/>
                  <a:pt x="21115" y="9483"/>
                  <a:pt x="20985" y="9475"/>
                </a:cubicBezTo>
                <a:cubicBezTo>
                  <a:pt x="20876" y="9469"/>
                  <a:pt x="20707" y="9458"/>
                  <a:pt x="20638" y="9451"/>
                </a:cubicBezTo>
                <a:cubicBezTo>
                  <a:pt x="20597" y="9447"/>
                  <a:pt x="20580" y="9425"/>
                  <a:pt x="20538" y="9426"/>
                </a:cubicBezTo>
                <a:cubicBezTo>
                  <a:pt x="20223" y="9430"/>
                  <a:pt x="19985" y="9554"/>
                  <a:pt x="19670" y="9599"/>
                </a:cubicBezTo>
                <a:cubicBezTo>
                  <a:pt x="19349" y="9644"/>
                  <a:pt x="18948" y="9663"/>
                  <a:pt x="18628" y="9624"/>
                </a:cubicBezTo>
                <a:cubicBezTo>
                  <a:pt x="18572" y="9617"/>
                  <a:pt x="18543" y="9554"/>
                  <a:pt x="18479" y="9550"/>
                </a:cubicBezTo>
                <a:cubicBezTo>
                  <a:pt x="17825" y="9505"/>
                  <a:pt x="17147" y="9629"/>
                  <a:pt x="16520" y="9624"/>
                </a:cubicBezTo>
                <a:cubicBezTo>
                  <a:pt x="16405" y="9623"/>
                  <a:pt x="16324" y="9587"/>
                  <a:pt x="16222" y="9575"/>
                </a:cubicBezTo>
                <a:cubicBezTo>
                  <a:pt x="16175" y="9570"/>
                  <a:pt x="16129" y="9530"/>
                  <a:pt x="16073" y="9525"/>
                </a:cubicBezTo>
                <a:cubicBezTo>
                  <a:pt x="14774" y="9402"/>
                  <a:pt x="13420" y="9619"/>
                  <a:pt x="12129" y="9649"/>
                </a:cubicBezTo>
                <a:cubicBezTo>
                  <a:pt x="11805" y="9657"/>
                  <a:pt x="11553" y="9672"/>
                  <a:pt x="11237" y="9723"/>
                </a:cubicBezTo>
                <a:cubicBezTo>
                  <a:pt x="11081" y="9748"/>
                  <a:pt x="10923" y="9762"/>
                  <a:pt x="10765" y="9773"/>
                </a:cubicBezTo>
                <a:cubicBezTo>
                  <a:pt x="10422" y="9796"/>
                  <a:pt x="9970" y="9835"/>
                  <a:pt x="9649" y="9798"/>
                </a:cubicBezTo>
                <a:cubicBezTo>
                  <a:pt x="9557" y="9787"/>
                  <a:pt x="9547" y="9792"/>
                  <a:pt x="9451" y="9773"/>
                </a:cubicBezTo>
                <a:cubicBezTo>
                  <a:pt x="9372" y="9757"/>
                  <a:pt x="9261" y="9696"/>
                  <a:pt x="9178" y="9674"/>
                </a:cubicBezTo>
                <a:cubicBezTo>
                  <a:pt x="9059" y="9643"/>
                  <a:pt x="8928" y="9624"/>
                  <a:pt x="8806" y="9599"/>
                </a:cubicBezTo>
                <a:cubicBezTo>
                  <a:pt x="8743" y="9586"/>
                  <a:pt x="8737" y="9584"/>
                  <a:pt x="8682" y="9575"/>
                </a:cubicBezTo>
                <a:cubicBezTo>
                  <a:pt x="8593" y="9561"/>
                  <a:pt x="8502" y="9533"/>
                  <a:pt x="8409" y="9525"/>
                </a:cubicBezTo>
                <a:cubicBezTo>
                  <a:pt x="8159" y="9504"/>
                  <a:pt x="7908" y="9536"/>
                  <a:pt x="7665" y="9550"/>
                </a:cubicBezTo>
                <a:cubicBezTo>
                  <a:pt x="7699" y="9577"/>
                  <a:pt x="7751" y="9734"/>
                  <a:pt x="7789" y="9748"/>
                </a:cubicBezTo>
                <a:cubicBezTo>
                  <a:pt x="7835" y="9765"/>
                  <a:pt x="7893" y="9785"/>
                  <a:pt x="7938" y="9798"/>
                </a:cubicBezTo>
                <a:cubicBezTo>
                  <a:pt x="8033" y="9824"/>
                  <a:pt x="8090" y="9777"/>
                  <a:pt x="8186" y="9798"/>
                </a:cubicBezTo>
                <a:cubicBezTo>
                  <a:pt x="8136" y="9801"/>
                  <a:pt x="8103" y="9821"/>
                  <a:pt x="8062" y="9823"/>
                </a:cubicBezTo>
                <a:cubicBezTo>
                  <a:pt x="7839" y="9833"/>
                  <a:pt x="7529" y="9870"/>
                  <a:pt x="7342" y="9748"/>
                </a:cubicBezTo>
                <a:cubicBezTo>
                  <a:pt x="7301" y="9721"/>
                  <a:pt x="7264" y="9692"/>
                  <a:pt x="7243" y="9674"/>
                </a:cubicBezTo>
                <a:cubicBezTo>
                  <a:pt x="7213" y="9649"/>
                  <a:pt x="7215" y="9596"/>
                  <a:pt x="7193" y="9575"/>
                </a:cubicBezTo>
                <a:cubicBezTo>
                  <a:pt x="7193" y="9550"/>
                  <a:pt x="7193" y="9542"/>
                  <a:pt x="7193" y="9525"/>
                </a:cubicBezTo>
                <a:cubicBezTo>
                  <a:pt x="7006" y="9541"/>
                  <a:pt x="6846" y="9578"/>
                  <a:pt x="6672" y="9599"/>
                </a:cubicBezTo>
                <a:cubicBezTo>
                  <a:pt x="6619" y="9605"/>
                  <a:pt x="6414" y="9621"/>
                  <a:pt x="6325" y="9624"/>
                </a:cubicBezTo>
                <a:cubicBezTo>
                  <a:pt x="6127" y="9631"/>
                  <a:pt x="5889" y="9645"/>
                  <a:pt x="5705" y="9649"/>
                </a:cubicBezTo>
                <a:cubicBezTo>
                  <a:pt x="5382" y="9657"/>
                  <a:pt x="5038" y="9697"/>
                  <a:pt x="4738" y="9699"/>
                </a:cubicBezTo>
                <a:cubicBezTo>
                  <a:pt x="4528" y="9701"/>
                  <a:pt x="4348" y="9657"/>
                  <a:pt x="4142" y="9624"/>
                </a:cubicBezTo>
                <a:cubicBezTo>
                  <a:pt x="4092" y="9616"/>
                  <a:pt x="3956" y="9571"/>
                  <a:pt x="3919" y="9575"/>
                </a:cubicBezTo>
                <a:cubicBezTo>
                  <a:pt x="3798" y="9589"/>
                  <a:pt x="3729" y="9681"/>
                  <a:pt x="3621" y="9699"/>
                </a:cubicBezTo>
                <a:cubicBezTo>
                  <a:pt x="3582" y="9705"/>
                  <a:pt x="3535" y="9690"/>
                  <a:pt x="3497" y="9699"/>
                </a:cubicBezTo>
                <a:cubicBezTo>
                  <a:pt x="3525" y="9653"/>
                  <a:pt x="3480" y="9604"/>
                  <a:pt x="3522" y="9575"/>
                </a:cubicBezTo>
                <a:cubicBezTo>
                  <a:pt x="3547" y="9575"/>
                  <a:pt x="3555" y="9575"/>
                  <a:pt x="3572" y="957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4" name="" descr=""/>
          <p:cNvPicPr/>
          <p:nvPr/>
        </p:nvPicPr>
        <p:blipFill>
          <a:blip r:embed="rId1"/>
          <a:stretch/>
        </p:blipFill>
        <p:spPr>
          <a:xfrm>
            <a:off x="5638680" y="4316400"/>
            <a:ext cx="3295800" cy="2541600"/>
          </a:xfrm>
          <a:prstGeom prst="rect">
            <a:avLst/>
          </a:prstGeom>
          <a:ln w="0">
            <a:noFill/>
          </a:ln>
        </p:spPr>
      </p:pic>
      <p:pic>
        <p:nvPicPr>
          <p:cNvPr id="1165" name="" descr=""/>
          <p:cNvPicPr/>
          <p:nvPr/>
        </p:nvPicPr>
        <p:blipFill>
          <a:blip r:embed="rId2"/>
          <a:stretch/>
        </p:blipFill>
        <p:spPr>
          <a:xfrm>
            <a:off x="32004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92 -0.14173 C -0.01822 -0.17873 -0.02135 -0.2326 -0.00937 -0.27052 C -0.00034 -0.34405 0.0172 -0.44093 -0.04445 -0.46081 C -0.05885 -0.47353 -0.03992 -0.47306 -0.06492 -0.46936 C -0.0927 -0.45757 -0.12917 -0.46358 -0.15382 -0.46289 C -0.15747 -0.4622 -0.16129 -0.46173 -0.16493 -0.46081 C -0.16667 -0.46035 -0.16806 -0.45919 -0.16979 -0.45873 C -0.175 -0.45711 -0.18559 -0.45457 -0.18559 -0.45457 C -0.19497 -0.44948 -0.20469 -0.44601 -0.21424 -0.44185 C -0.22083 -0.43584 -0.22743 -0.43468 -0.23333 -0.42705 C -0.23594 -0.40925 -0.24427 -0.40439 -0.24757 -0.39098 C -0.25156 -0.3748 -0.26042 -0.36393 -0.26979 -0.35306 C -0.29184 -0.3274 -0.26493 -0.35723 -0.28403 -0.33179 C -0.28767 -0.32694 -0.29254 -0.3237 -0.2967 -0.31931 C -0.29827 -0.3089 -0.30035 -0.30266 -0.30469 -0.29387 C -0.30955 -0.26104 -0.3257 -0.22682 -0.34601 -0.20717 C -0.35347 -0.18705 -0.35139 -0.19653 -0.35382 -0.17965 C -0.35156 -0.16717 -0.34965 -0.16832 -0.34115 -0.16277 C -0.34063 -0.16069 -0.33993 -0.15861 -0.33958 -0.15653 C -0.33889 -0.15237 -0.33906 -0.14798 -0.33802 -0.14382 C -0.33663 -0.13803 -0.33264 -0.12971 -0.33004 -0.12462 C -0.32205 -0.09272 -0.3033 -0.06266 -0.27778 -0.05711 C -0.26389 -0.04809 -0.24827 -0.04717 -0.23333 -0.04231 C -0.21788 -0.03723 -0.20295 -0.0289 -0.18889 -0.01896 C -0.17292 -0.01965 -0.15695 -0.01896 -0.14115 -0.02104 C -0.13958 -0.02127 -0.13941 -0.02451 -0.13802 -0.02543 C -0.13559 -0.02728 -0.13264 -0.02821 -0.13004 -0.0296 C -0.1224 -0.0333 -0.11424 -0.03584 -0.10625 -0.03815 C -0.10381 -0.04809 -0.09999 -0.05341 -0.09357 -0.05919 C -0.08992 -0.07399 -0.09357 -0.0733 -0.08559 -0.06983 C -0.08107 -0.06358 -0.08125 -0.05965 -0.07603 -0.05295 C -0.07395 -0.04439 -0.07187 -0.03607 -0.06978 -0.02751 C -0.06805 -0.02058 -0.06927 -0.01272 -0.06666 -0.00624 C -0.06354 0.00185 -0.05937 0.0074 -0.05555 0.0148 C -0.0375 0.0141 -0.01962 0.01387 -0.00155 0.01272 C 0.00522 0.01225 0.00591 1.84971E-006 6.38889E-006 1.84971E-006 E">
                                      <p:cBhvr>
                                        <p:cTn id="21" dur="5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165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165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000" fill="hold"/>
                                        <p:tgtEl>
                                          <p:spTgt spid="1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50000">
              <a:srgbClr val="f70909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1066680" y="0"/>
            <a:ext cx="5867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enry's lif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rst he is a slav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se he was a slave he wasn’t allowed to know his birthday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371600" y="6858000"/>
            <a:ext cx="6037200" cy="544680"/>
          </a:xfrm>
          <a:custGeom>
            <a:avLst/>
            <a:gdLst/>
            <a:ahLst/>
            <a:rect l="l" t="t" r="r" b="b"/>
            <a:pathLst>
              <a:path w="16769" h="1514">
                <a:moveTo>
                  <a:pt x="2952" y="3919"/>
                </a:moveTo>
                <a:cubicBezTo>
                  <a:pt x="2987" y="3907"/>
                  <a:pt x="2979" y="3883"/>
                  <a:pt x="3026" y="3870"/>
                </a:cubicBezTo>
                <a:cubicBezTo>
                  <a:pt x="3041" y="3866"/>
                  <a:pt x="3110" y="3826"/>
                  <a:pt x="3150" y="3820"/>
                </a:cubicBezTo>
                <a:cubicBezTo>
                  <a:pt x="3524" y="3763"/>
                  <a:pt x="3936" y="3798"/>
                  <a:pt x="4291" y="3795"/>
                </a:cubicBezTo>
                <a:cubicBezTo>
                  <a:pt x="4549" y="3793"/>
                  <a:pt x="4788" y="3832"/>
                  <a:pt x="5035" y="3845"/>
                </a:cubicBezTo>
                <a:cubicBezTo>
                  <a:pt x="5953" y="3894"/>
                  <a:pt x="6900" y="3870"/>
                  <a:pt x="7813" y="3870"/>
                </a:cubicBezTo>
                <a:cubicBezTo>
                  <a:pt x="7983" y="3870"/>
                  <a:pt x="8147" y="3890"/>
                  <a:pt x="8310" y="3894"/>
                </a:cubicBezTo>
                <a:cubicBezTo>
                  <a:pt x="8505" y="3899"/>
                  <a:pt x="8697" y="3892"/>
                  <a:pt x="8880" y="3919"/>
                </a:cubicBezTo>
                <a:cubicBezTo>
                  <a:pt x="8966" y="3932"/>
                  <a:pt x="9024" y="3940"/>
                  <a:pt x="9079" y="3969"/>
                </a:cubicBezTo>
                <a:cubicBezTo>
                  <a:pt x="9104" y="3982"/>
                  <a:pt x="9111" y="4008"/>
                  <a:pt x="9128" y="4018"/>
                </a:cubicBezTo>
                <a:cubicBezTo>
                  <a:pt x="9162" y="4038"/>
                  <a:pt x="9210" y="4107"/>
                  <a:pt x="9227" y="4118"/>
                </a:cubicBezTo>
                <a:cubicBezTo>
                  <a:pt x="9276" y="4148"/>
                  <a:pt x="9290" y="4143"/>
                  <a:pt x="9327" y="4167"/>
                </a:cubicBezTo>
                <a:cubicBezTo>
                  <a:pt x="9360" y="4189"/>
                  <a:pt x="9399" y="4173"/>
                  <a:pt x="9426" y="4192"/>
                </a:cubicBezTo>
                <a:cubicBezTo>
                  <a:pt x="9450" y="4208"/>
                  <a:pt x="9482" y="4264"/>
                  <a:pt x="9525" y="4291"/>
                </a:cubicBezTo>
                <a:cubicBezTo>
                  <a:pt x="9582" y="4327"/>
                  <a:pt x="9641" y="4355"/>
                  <a:pt x="9699" y="4390"/>
                </a:cubicBezTo>
                <a:cubicBezTo>
                  <a:pt x="9757" y="4425"/>
                  <a:pt x="9816" y="4461"/>
                  <a:pt x="9872" y="4490"/>
                </a:cubicBezTo>
                <a:cubicBezTo>
                  <a:pt x="9914" y="4511"/>
                  <a:pt x="9954" y="4521"/>
                  <a:pt x="9996" y="4539"/>
                </a:cubicBezTo>
                <a:cubicBezTo>
                  <a:pt x="10030" y="4554"/>
                  <a:pt x="10062" y="4574"/>
                  <a:pt x="10096" y="4589"/>
                </a:cubicBezTo>
                <a:cubicBezTo>
                  <a:pt x="10150" y="4612"/>
                  <a:pt x="10208" y="4615"/>
                  <a:pt x="10269" y="4638"/>
                </a:cubicBezTo>
                <a:cubicBezTo>
                  <a:pt x="10348" y="4668"/>
                  <a:pt x="10431" y="4721"/>
                  <a:pt x="10517" y="4738"/>
                </a:cubicBezTo>
                <a:cubicBezTo>
                  <a:pt x="10741" y="4782"/>
                  <a:pt x="10983" y="4762"/>
                  <a:pt x="11212" y="4762"/>
                </a:cubicBezTo>
                <a:cubicBezTo>
                  <a:pt x="11329" y="4762"/>
                  <a:pt x="11456" y="4775"/>
                  <a:pt x="11559" y="4738"/>
                </a:cubicBezTo>
                <a:cubicBezTo>
                  <a:pt x="11579" y="4731"/>
                  <a:pt x="11603" y="4676"/>
                  <a:pt x="11633" y="4663"/>
                </a:cubicBezTo>
                <a:cubicBezTo>
                  <a:pt x="11679" y="4643"/>
                  <a:pt x="11731" y="4613"/>
                  <a:pt x="11782" y="4589"/>
                </a:cubicBezTo>
                <a:cubicBezTo>
                  <a:pt x="11887" y="4539"/>
                  <a:pt x="11962" y="4498"/>
                  <a:pt x="12055" y="4440"/>
                </a:cubicBezTo>
                <a:cubicBezTo>
                  <a:pt x="12080" y="4424"/>
                  <a:pt x="12147" y="4369"/>
                  <a:pt x="12154" y="4366"/>
                </a:cubicBezTo>
                <a:cubicBezTo>
                  <a:pt x="12170" y="4359"/>
                  <a:pt x="12177" y="4328"/>
                  <a:pt x="12204" y="4316"/>
                </a:cubicBezTo>
                <a:cubicBezTo>
                  <a:pt x="12255" y="4294"/>
                  <a:pt x="12328" y="4316"/>
                  <a:pt x="12378" y="4291"/>
                </a:cubicBezTo>
                <a:cubicBezTo>
                  <a:pt x="12416" y="4272"/>
                  <a:pt x="12461" y="4233"/>
                  <a:pt x="12502" y="4217"/>
                </a:cubicBezTo>
                <a:cubicBezTo>
                  <a:pt x="12549" y="4199"/>
                  <a:pt x="12584" y="4182"/>
                  <a:pt x="12626" y="4167"/>
                </a:cubicBezTo>
                <a:cubicBezTo>
                  <a:pt x="12663" y="4153"/>
                  <a:pt x="12684" y="4127"/>
                  <a:pt x="12725" y="4118"/>
                </a:cubicBezTo>
                <a:cubicBezTo>
                  <a:pt x="12780" y="4105"/>
                  <a:pt x="12843" y="4103"/>
                  <a:pt x="12898" y="4093"/>
                </a:cubicBezTo>
                <a:cubicBezTo>
                  <a:pt x="12979" y="4078"/>
                  <a:pt x="13096" y="4082"/>
                  <a:pt x="13146" y="4068"/>
                </a:cubicBezTo>
                <a:cubicBezTo>
                  <a:pt x="13198" y="4054"/>
                  <a:pt x="13170" y="4034"/>
                  <a:pt x="13221" y="4018"/>
                </a:cubicBezTo>
                <a:cubicBezTo>
                  <a:pt x="14141" y="4018"/>
                  <a:pt x="15101" y="4065"/>
                  <a:pt x="15999" y="3969"/>
                </a:cubicBezTo>
                <a:cubicBezTo>
                  <a:pt x="16131" y="3955"/>
                  <a:pt x="16264" y="3956"/>
                  <a:pt x="16396" y="3944"/>
                </a:cubicBezTo>
                <a:cubicBezTo>
                  <a:pt x="17393" y="3855"/>
                  <a:pt x="18419" y="3919"/>
                  <a:pt x="19422" y="3919"/>
                </a:cubicBezTo>
              </a:path>
              <a:path w="16769" h="1514">
                <a:moveTo>
                  <a:pt x="2654" y="4887"/>
                </a:moveTo>
                <a:cubicBezTo>
                  <a:pt x="2654" y="5027"/>
                  <a:pt x="2654" y="5168"/>
                  <a:pt x="2654" y="5308"/>
                </a:cubicBezTo>
                <a:cubicBezTo>
                  <a:pt x="2679" y="5308"/>
                  <a:pt x="2704" y="5308"/>
                  <a:pt x="2729" y="5308"/>
                </a:cubicBezTo>
                <a:cubicBezTo>
                  <a:pt x="2729" y="5257"/>
                  <a:pt x="2727" y="5259"/>
                  <a:pt x="2778" y="5259"/>
                </a:cubicBezTo>
                <a:cubicBezTo>
                  <a:pt x="2886" y="5259"/>
                  <a:pt x="2993" y="5259"/>
                  <a:pt x="3101" y="5259"/>
                </a:cubicBezTo>
              </a:path>
              <a:path w="16769" h="1514">
                <a:moveTo>
                  <a:pt x="3299" y="4936"/>
                </a:moveTo>
                <a:lnTo>
                  <a:pt x="3299" y="4936"/>
                </a:lnTo>
              </a:path>
              <a:path w="16769" h="1514">
                <a:moveTo>
                  <a:pt x="3274" y="4911"/>
                </a:moveTo>
                <a:cubicBezTo>
                  <a:pt x="3282" y="4911"/>
                  <a:pt x="3291" y="4911"/>
                  <a:pt x="3299" y="49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6702480" y="3809880"/>
            <a:ext cx="2441520" cy="274320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27075 C -0.00191 0.28555 -0.00312 0.30012 -0.00486 0.31492 C -0.00417 0.35838 -0.00486 0.40093 -0.00312 0.44439 C -0.00278 0.45457 0.00191 0.47145 0.00295 0.48185 C 0.00799 0.50266 0.01354 0.52439 0.01771 0.54544 C 0.01979 0.55908 0.02049 0.57572 0.02188 0.58983 C 0.025 0.60046 0.02552 0.59931 0.02674 0.61087 C 0.02778 0.62174 0.03021 0.64439 0.03003 0.64416 C 0.02795 0.67353 0.03247 0.66174 0.01389 0.6807 C 0.01198 0.68255 0.01007 0.68486 0.00851 0.68694 C 0.00486 0.68971 -0.00191 0.69526 -0.00208 0.69526 C -0.00885 0.69757 -0.01319 0.7022 -0.01944 0.70821 C -0.03559 0.71376 -0.01632 0.7059 -0.03003 0.71422 C -0.03333 0.7163 -0.03958 0.71838 -0.0401 0.71838 C -0.07812 0.72393 -0.11701 0.72278 -0.15556 0.72509 C -0.17535 0.72601 -0.17049 0.72463 -0.18108 0.72925 C -0.22917 0.73249 -0.21059 0.72555 -0.19653 0.74382 C -0.1717 0.7459 -0.14705 0.75029 -0.12257 0.75445 C -0.11424 0.75584 -0.10642 0.75861 -0.09826 0.76093 C -0.09566 0.76162 -0.09028 0.76301 -0.09045 0.76278 C -0.08524 0.76208 -0.07969 0.76255 -0.07483 0.7607 C -0.07309 0.76023 -0.07309 0.757 -0.07135 0.75653 C -0.06736 0.75468 -0.04462 0.75237 -0.04479 0.75237 C -0.04028 0.75168 -0.03628 0.75145 -0.0316 0.75006 C -0.02865 0.74913 -0.02222 0.74613 -0.02257 0.74613 C -0.01528 0.7452 -0.00851 0.7452 -0.00191 0.74405 C 5.55111512312578E-017 0.74335 0.00156 0.74058 0.00313 0.73965 C 0.02014 0.73364 0.01163 0.74266 0.0191 0.73318 C 0.025 0.73087 0.02587 0.72624 0.03003 0.7207 C 0.03698 0.71746 0.04358 0.71376 0.04705 0.70567 C 0.06649 0.69781 0.06076 0.68023 0.06181 0.65318 C 0.06493 0.63445 0.06684 0.61734 0.06788 0.59769 C 0.06615 0.51307 0.0691 0.48809 0.05382 0.42451 C 0.05486 0.28809 0.04653 0.29989 0.0599 0.22821 C 0.05816 0.21457 0.05556 0.20208 0.05365 0.18798 C 0.05469 0.1711 0.05556 0.15422 0.05677 0.13734 C 0.05781 0.12717 0.06441 0.11838 0.06649 0.10567 C 0.06493 0.00555 0.08993 0.00624 0.06163 0.00624 E">
                                      <p:cBhvr>
                                        <p:cTn id="32" dur="20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17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17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6000" fill="hold"/>
                                        <p:tgtEl>
                                          <p:spTgt spid="1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6c860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 txBox="1"/>
          <p:nvPr/>
        </p:nvSpPr>
        <p:spPr>
          <a:xfrm>
            <a:off x="1523880" y="533520"/>
            <a:ext cx="5191200" cy="19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is Fami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d a few brothers and sis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master sent Henry to his 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2"/>
          <a:stretch/>
        </p:blipFill>
        <p:spPr>
          <a:xfrm>
            <a:off x="4952880" y="4060800"/>
            <a:ext cx="4191120" cy="2797200"/>
          </a:xfrm>
          <a:prstGeom prst="rect">
            <a:avLst/>
          </a:prstGeom>
          <a:ln w="0">
            <a:noFill/>
          </a:ln>
        </p:spPr>
      </p:pic>
      <p:pic>
        <p:nvPicPr>
          <p:cNvPr id="117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5.20231E-007 C 0.00053 0.03515 0.00122 0.07052 0.00157 0.10567 C 0.00226 0.15769 0.00244 0.20994 0.00312 0.26197 C 0.00365 0.30127 -0.00312 0.32902 0.0158 0.35515 C 0.01789 0.36347 0.02014 0.37087 0.02379 0.37827 C 0.0316 0.41041 0.02119 0.37387 0.03334 0.39954 C 0.03542 0.40416 0.03612 0.40971 0.03803 0.41434 C 0.04132 0.42243 0.04549 0.42983 0.04914 0.43746 C 0.05591 0.45156 0.06181 0.4763 0.07448 0.48185 C 0.07935 0.48832 0.08403 0.49434 0.08889 0.50081 C 0.0915 0.50428 0.0967 0.51145 0.0967 0.51168 C 0.09965 0.52254 0.09635 0.51422 0.10313 0.52208 C 0.11303 0.53364 0.11546 0.54081 0.12848 0.5452 C 0.13664 0.55607 0.12518 0.54197 0.14115 0.55376 C 0.14306 0.55515 0.1441 0.55861 0.14601 0.56 C 0.1481 0.56162 0.15851 0.5637 0.16025 0.56439 C 0.16355 0.56555 0.1665 0.56856 0.1698 0.56856 C 0.19254 0.56925 0.21528 0.56994 0.23803 0.57064 C 0.25903 0.57225 0.27605 0.5748 0.29671 0.57272 C 0.30504 0.56925 0.3132 0.57087 0.32066 0.56439 C 0.32119 0.56231 0.32223 0.56023 0.32223 0.55792 C 0.32223 0.54728 0.32466 0.53387 0.31893 0.52624 C 0.31771 0.52462 0.31563 0.52509 0.31424 0.52416 C 0.29792 0.5133 0.2948 0.51515 0.27136 0.51353 C 0.25782 0.50751 0.27865 0.51653 0.25869 0.50936 C 0.25539 0.50821 0.24914 0.5052 0.24914 0.50543 C 0.23889 0.49087 0.25556 0.5126 0.23959 0.49873 C 0.23803 0.49734 0.23785 0.4941 0.23646 0.49249 C 0.23473 0.49064 0.22362 0.48486 0.22223 0.48393 C 0.21181 0.47699 0.20348 0.47006 0.19202 0.46705 C 0.18889 0.46428 0.18507 0.46243 0.18247 0.45873 C 0.18143 0.45734 0.18073 0.45526 0.17935 0.45434 C 0.17691 0.45249 0.17396 0.45179 0.17136 0.45017 C 0.16667 0.44717 0.16303 0.44139 0.15869 0.43746 C 0.15053 0.42104 0.16129 0.44093 0.1507 0.42682 C 0.14653 0.42127 0.14462 0.41225 0.14115 0.40578 C 0.13803 0.39353 0.14028 0.40162 0.13334 0.38243 C 0.13247 0.37988 0.13282 0.37665 0.13178 0.3741 C 0.13108 0.37225 0.12935 0.37156 0.12848 0.36994 C 0.12622 0.36578 0.12223 0.35723 0.12223 0.35746 C 0.12014 0.34844 0.11528 0.34335 0.11112 0.33595 C 0.10608 0.32694 0.10435 0.31954 0.10001 0.31075 C 0.09827 0.30358 0.0967 0.29665 0.09513 0.28948 C 0.09428 0.28509 0.09202 0.27676 0.09202 0.27699 C 0.09062 0.24786 0.08889 0.21873 0.0856 0.19006 C 0.08872 0.14543 0.0882 0.16509 0.0856 0.09711 C 0.08542 0.09225 0.08507 0.07676 0.08247 0.0696 C 0.0783 0.0585 0.07013 0.05387 0.06337 0.04647 C 0.05573 0.03838 0.05417 0.03029 0.04289 0.0252 C 0.03438 0.0037 0.01962 0.00601 0.00312 0.00416 C -0.00209 -0.0067 -0.00468 -0.00439 -0.0144 -0.00231 C -0.01701 0.00139 -0.01893 0.00347 -0.02066 0.00832 C -0.02136 0.01041 -0.02136 0.01295 -0.02223 0.0148 C -0.02395 0.01873 -0.02674 0.0215 -0.02865 0.0252 C -0.02917 0.02728 -0.03004 0.02936 -0.03021 0.03168 C -0.03108 0.04 -0.03039 0.04856 -0.03178 0.05688 C -0.03212 0.05896 -0.03403 0.05965 -0.03489 0.06127 C -0.03837 0.06821 -0.03941 0.07538 -0.04289 0.08231 C -0.04775 0.10289 -0.0448 0.10474 -0.04289 0.13318 C -0.04185 0.14798 -0.04167 0.16324 -0.0382 0.17757 C -0.03681 0.19538 -0.03733 0.19838 -0.03021 0.21133 C -0.02969 0.2148 -0.02935 0.2185 -0.02865 0.22197 C -0.02778 0.22613 -0.02553 0.23445 -0.02553 0.23468 C -0.02674 0.26775 -0.01685 0.32139 -0.04289 0.34451 C -0.05746 0.34173 -0.06145 0.34543 -0.06996 0.33595 C -0.07518 0.33017 -0.08264 0.31491 -0.08264 0.31515 C -0.08369 0.31075 -0.08473 0.30636 -0.08577 0.3022 C -0.08716 0.29665 -0.08889 0.28532 -0.08889 0.28555 C -0.08837 0.26428 -0.08768 0.24301 -0.08733 0.22197 C -0.08438 0.01873 -0.12188 0.0578 0.02223 0.0548 C 0.02171 0.05064 0.02205 0.04601 0.02066 0.04208 C 0.0198 0.03931 0.01719 0.03815 0.0158 0.03584 C 0.0106 0.02682 0.00451 0.01549 5E-006 0.00624 C -0.00347 -0.00069 -0.0026 -5.20231E-007 5E-006 -5.20231E-007 Z">
                                      <p:cBhvr>
                                        <p:cTn id="48" dur="5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85 -0.21156 C -0.01146 -0.23792 -0.01111 -0.27607 -0.00174 -0.30034 C 0.0026 -0.31167 0.00781 -0.32231 0.01111 -0.3341 C 0.0125 -0.34959 0.01337 -0.36069 0.02534 -0.36578 C 0.03316 -0.37318 0.04184 -0.37803 0.05069 -0.38266 C 0.06441 -0.38196 0.07864 -0.38497 0.09201 -0.38057 C 0.09705 -0.37896 0.10312 -0.36578 0.10312 -0.36555 C 0.10538 -0.35653 0.11076 -0.34959 0.11423 -0.34057 C 0.11701 -0.31768 0.12222 -0.32716 0.1158 -0.29618 C 0.11354 -0.28508 0.10625 -0.27352 0.10156 -0.26427 C 0.09062 -0.24254 0.07725 -0.20693 0.05382 -0.20508 C 0.03646 -0.2037 0.01892 -0.2037 0.00156 -0.203 C -0.02622 -0.1993 -0.05382 -0.19953 -0.08108 -0.2074 C -0.08507 -0.20716 -0.11667 -0.2067 -0.12865 -0.203 C -0.14063 -0.1993 -0.15365 -0.19398 -0.16511 -0.1882 C -0.16736 -0.18705 -0.1691 -0.18451 -0.17153 -0.18404 C -0.19913 -0.17896 -0.22778 -0.17757 -0.25556 -0.17341 C -0.27934 -0.16578 -0.30278 -0.15283 -0.32709 -0.1482 C -0.34584 -0.13965 -0.36476 -0.13109 -0.3842 -0.12485 C -0.40174 -0.11121 -0.41841 -0.09965 -0.43663 -0.0867 C -0.45052 -0.07699 -0.45625 -0.05757 -0.46997 -0.04878 C -0.48212 -0.02358 -0.49514 -0.02705 -0.51754 -0.02543 C -0.53386 -0.02266 -0.54879 -0.01341 -0.56511 -0.01063 C -0.5783 -0.00855 -0.59167 -0.00647 -0.60486 -0.00439 C -0.6165 0.00578 -0.62257 0.02289 -0.63021 0.03792 C -0.63125 0.04 -0.6316 0.04324 -0.63334 0.04417 C -0.63646 0.04555 -0.64288 0.04856 -0.64288 0.04879 C -0.64462 0.05827 -0.64618 0.06243 -0.64288 0.07376 C -0.64011 0.08301 -0.62969 0.10058 -0.62222 0.10567 C -0.61389 0.11122 -0.60625 0.11075 -0.59688 0.11191 C -0.58629 0.11122 -0.5757 0.11099 -0.56511 0.10983 C -0.5592 0.10914 -0.55347 0.10312 -0.54775 0.10128 C -0.5415 0.09318 -0.53993 0.08971 -0.5382 0.07815 C -0.53907 0.04347 -0.53577 -0.00069 -0.56354 -0.01919 C -0.56858 -0.03029 -0.57257 -0.04208 -0.57952 -0.05086 C -0.58125 -0.06034 -0.58212 -0.06913 -0.58733 -0.0763 C -0.5908 -0.08971 -0.59254 -0.10451 -0.59844 -0.1163 C -0.60018 -0.12624 -0.60087 -0.12786 -0.60799 -0.13109 C -0.61007 -0.14011 -0.6158 -0.14104 -0.61111 -0.15029 C -0.61007 -0.15237 -0.60799 -0.15306 -0.60643 -0.15445 C -0.59861 -0.17017 -0.5915 -0.17179 -0.57952 -0.1778 C -0.57466 -0.17711 -0.56979 -0.17711 -0.56511 -0.17549 C -0.56007 -0.17387 -0.55747 -0.16531 -0.554 -0.16069 C -0.55174 -0.13341 -0.55157 -0.13294 -0.53976 -0.11214 C -0.53663 -0.10659 -0.53004 -0.1052 -0.52709 -0.09942 C -0.52257 -0.09063 -0.51684 -0.0837 -0.51111 -0.0763 C -0.50382 -0.06705 -0.50174 -0.05503 -0.49375 -0.0467 C -0.48698 -0.03953 -0.47813 -0.03491 -0.47153 -0.02751 C -0.45209 -0.00555 -0.46702 -0.0141 -0.44931 -0.00647 C -0.43368 0.00995 -0.42622 0.02151 -0.40643 0.02521 C -0.39931 0.02844 -0.39931 0.03515 -0.39375 0.02729 C -0.38993 0.01226 -0.39705 -0.0037 -0.40799 -0.00855 C -0.41163 -0.01595 -0.41424 -0.0178 -0.4191 -0.02335 C -0.43542 -0.04162 -0.41441 -0.01919 -0.42709 -0.03607 C -0.42847 -0.03792 -0.43038 -0.03861 -0.43177 -0.04023 C -0.44028 -0.04925 -0.42969 -0.03953 -0.4382 -0.05086 C -0.44063 -0.0541 -0.44375 -0.05618 -0.44618 -0.05942 C -0.45018 -0.0756 -0.44427 -0.05595 -0.45243 -0.06982 C -0.45347 -0.07167 -0.45313 -0.07445 -0.454 -0.0763 C -0.45486 -0.07792 -0.45625 -0.07907 -0.45729 -0.08046 C -0.45035 -0.08346 -0.44479 -0.0867 -0.43663 -0.08046 C -0.43368 -0.07815 -0.43438 -0.0719 -0.43334 -0.06774 C -0.43073 -0.05803 -0.42604 -0.04971 -0.4191 -0.0467 C -0.41563 -0.03214 -0.40313 -0.03722 -0.39219 -0.03607 C -0.3849 -0.03283 -0.38681 -0.02867 -0.37952 -0.02543 C -0.37483 -0.01942 -0.37292 -0.01942 -0.37778 -0.00647 C -0.37847 -0.00439 -0.38091 -0.00462 -0.38264 -0.00439 C -0.39688 -0.00323 -0.41129 -0.003 -0.42552 -0.00231 C -0.425 0.00116 -0.42552 0.00532 -0.42396 0.00833 C -0.42309 0.01018 -0.42084 0.01018 -0.4191 0.01041 C -0.40799 0.01156 -0.39688 0.0118 -0.38577 0.01249 C -0.37917 0.01457 -0.37344 0.02035 -0.36667 0.02104 C -0.32865 0.02451 -0.35191 0.02289 -0.29688 0.02521 C -0.2882 0.02659 -0.2783 0.02729 -0.26997 0.03168 C -0.26597 0.03376 -0.26302 0.03977 -0.25886 0.04 C -0.22657 0.04208 -0.19427 0.04139 -0.16198 0.04208 C -0.14809 0.04833 -0.13334 0.0481 -0.1191 0.05272 C -0.02361 0.04879 -0.04393 0.07122 -0.00643 0.03792 C -0.00347 0.03191 0.00017 0.02706 0.00312 0.02104 C 0.0026 0.01619 0.00225 0.0111 0.00156 0.00625 C 0.00121 0.00393 2.77778E-006 -0.00023 2.77778E-006 -3.46821E-006 E">
                                      <p:cBhvr>
                                        <p:cTn id="56" dur="5000" fill="hold"/>
                                        <p:tgtEl>
                                          <p:spTgt spid="1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68097" fill="hold"/>
                                        <p:tgtEl>
                                          <p:spTgt spid="1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175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17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7000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17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17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7000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b17"/>
            </a:gs>
            <a:gs pos="100000">
              <a:srgbClr val="f709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 txBox="1"/>
          <p:nvPr/>
        </p:nvSpPr>
        <p:spPr>
          <a:xfrm>
            <a:off x="3048120" y="380880"/>
            <a:ext cx="4190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chiviem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091200" y="4343400"/>
            <a:ext cx="3052800" cy="2514600"/>
          </a:xfrm>
          <a:prstGeom prst="rect">
            <a:avLst/>
          </a:prstGeom>
          <a:ln w="0">
            <a:noFill/>
          </a:ln>
        </p:spPr>
      </p:pic>
      <p:pic>
        <p:nvPicPr>
          <p:cNvPr id="1179" name="" descr=""/>
          <p:cNvPicPr/>
          <p:nvPr/>
        </p:nvPicPr>
        <p:blipFill>
          <a:blip r:embed="rId2"/>
          <a:stretch/>
        </p:blipFill>
        <p:spPr>
          <a:xfrm>
            <a:off x="0" y="4317840"/>
            <a:ext cx="2819520" cy="2540160"/>
          </a:xfrm>
          <a:prstGeom prst="rect">
            <a:avLst/>
          </a:prstGeom>
          <a:ln w="0">
            <a:noFill/>
          </a:ln>
        </p:spPr>
      </p:pic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is first achievement is he got to freedo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other one is he helped black peopl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8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40080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82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181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18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61062" fill="hold"/>
                                        <p:tgtEl>
                                          <p:spTgt spid="1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182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182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9000" fill="hold"/>
                                        <p:tgtEl>
                                          <p:spTgt spid="1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0909"/>
            </a:gs>
            <a:gs pos="50000">
              <a:srgbClr val="993300"/>
            </a:gs>
            <a:gs pos="100000">
              <a:srgbClr val="f709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990360" y="9907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   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ne day when he was at the market Henry saw a woman. Her name was Nancy. They walked and they talk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4" name="" descr=""/>
          <p:cNvPicPr/>
          <p:nvPr/>
        </p:nvPicPr>
        <p:blipFill>
          <a:blip r:embed="rId1"/>
          <a:stretch/>
        </p:blipFill>
        <p:spPr>
          <a:xfrm>
            <a:off x="2362320" y="4191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0.0222 C 0.07864 -0.00416 0.11302 0.04093 0.07795 -0.00115 C 0.07239 -0.00763 0.06718 -0.01456 0.06215 -0.02196 C 0.05555 -0.03144 0.05017 -0.04277 0.04305 -0.05156 C 0.0342 -0.06243 0.02361 -0.07075 0.01441 -0.08115 C -0.00278 -0.10034 -0.01945 -0.12069 -0.03629 -0.14034 C -0.04445 -0.14982 -0.05834 -0.15607 -0.06806 -0.16162 C -0.08611 -0.17202 -0.10278 -0.18266 -0.12205 -0.1889 C -0.1316 -0.18821 -0.14115 -0.18844 -0.1507 -0.18682 C -0.154 -0.18636 -0.16007 -0.18266 -0.16007 -0.18243 C -0.1665 -0.17433 -0.17535 -0.1674 -0.18403 -0.1637 C -0.19479 -0.15375 -0.18976 -0.15676 -0.19827 -0.15306 C -0.20782 -0.13387 -0.22743 -0.12115 -0.24271 -0.11075 C -0.24705 -0.10243 -0.25295 -0.10243 -0.25851 -0.09618 C -0.26893 -0.08416 -0.279 -0.07306 -0.29028 -0.06219 C -0.29306 -0.05965 -0.2941 -0.05456 -0.2967 -0.05156 C -0.29896 -0.04901 -0.30209 -0.04786 -0.30452 -0.04532 C -0.31285 -0.0363 -0.31997 -0.02497 -0.32848 -0.01595 C -0.32969 -0.01225 -0.33247 -0.00393 -0.33473 -0.00115 C -0.33611 0.00093 -0.3382 0.00139 -0.33959 0.00324 C -0.34549 0.01133 -0.34705 0.01642 -0.35382 0.0222 C -0.36285 0.04 -0.34896 0.01364 -0.36337 0.03723 C -0.379 0.06289 -0.36476 0.04347 -0.37604 0.05827 C -0.37969 0.07353 -0.37743 0.06729 -0.38229 0.07746 C -0.38177 0.08093 -0.38334 0.08694 -0.38073 0.08786 C -0.37778 0.08856 -0.37674 0.08208 -0.37448 0.07954 C -0.37292 0.07792 -0.37118 0.0763 -0.36962 0.07515 C -0.36198 0.05989 -0.37223 0.07885 -0.36007 0.06266 C -0.35868 0.06081 -0.35834 0.05781 -0.35695 0.05619 C -0.35417 0.05272 -0.35052 0.05064 -0.3474 0.04786 C -0.34584 0.04625 -0.34271 0.04347 -0.34271 0.0437 C -0.33646 0.03075 -0.33004 0.01804 -0.32205 0.0074 C -0.3191 -0.00508 -0.32292 0.00671 -0.31407 -0.00532 C -0.31164 -0.00832 -0.31042 -0.01318 -0.30782 -0.01595 C -0.29844 -0.02612 -0.2941 -0.02589 -0.28403 -0.0326 C -0.27709 -0.03722 -0.26893 -0.04046 -0.26337 -0.0474 C -0.25729 -0.05526 -0.26059 -0.05271 -0.25382 -0.05572 C -0.24948 -0.06173 -0.24479 -0.06243 -0.23959 -0.06636 C -0.22934 -0.07399 -0.22448 -0.07815 -0.2125 -0.08347 C -0.20469 -0.0941 -0.21545 -0.08023 -0.20295 -0.09179 C -0.20122 -0.09341 -0.20018 -0.09641 -0.19827 -0.09826 C -0.19375 -0.10196 -0.18716 -0.10381 -0.18229 -0.10682 C -0.18021 -0.10774 -0.17813 -0.10959 -0.17604 -0.11075 C -0.17292 -0.11237 -0.1665 -0.11491 -0.1665 -0.11468 C -0.16059 -0.12323 -0.15104 -0.12763 -0.14271 -0.12971 C -0.12917 -0.13711 -0.1158 -0.13919 -0.10139 -0.14243 C -0.09618 -0.14173 -0.09063 -0.14266 -0.08559 -0.14034 C -0.08403 -0.13965 -0.0842 -0.13618 -0.08403 -0.1341 C -0.08316 -0.12277 -0.08316 -0.11167 -0.08229 -0.10034 C -0.08143 -0.08809 -0.07587 -0.07953 -0.07292 -0.06844 C -0.06979 -0.05641 -0.06875 -0.0437 -0.06337 -0.0326 C -0.0592 -0.01549 -0.05556 0.00255 -0.05226 0.02012 C -0.05174 0.02336 -0.04879 0.02428 -0.0474 0.02659 C -0.04445 0.03191 -0.04236 0.03769 -0.03959 0.04347 C -0.0375 0.04763 -0.03316 0.05619 -0.03316 0.05642 C -0.02952 0.07099 -0.03316 0.06752 -0.02518 0.07099 C -0.01841 0.077 -0.01893 0.08162 -0.01736 0.09226 C -0.01684 0.10289 -0.0165 0.11353 -0.01563 0.12393 C -0.01545 0.12601 -0.01407 0.1281 -0.01407 0.13018 C -0.01407 0.13873 -0.01563 0.15561 -0.01563 0.15584 C -0.01563 0.15607 0.09861 0.0222 0.09861 0.02243 Z">
                                      <p:cBhvr>
                                        <p:cTn id="114" dur="20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84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18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80114" fill="hold"/>
                                        <p:tgtEl>
                                          <p:spTgt spid="1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2057040" y="533160"/>
            <a:ext cx="5638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y became to know each other. Soon Henry asked her to marry him. There masters agreed to let them mar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73 -0.00208 -0.01285 -0.00255 -0.01736 -0.00856 C -0.02309 -0.01619 -0.02344 -0.02243 -0.02847 -0.03191 C -0.03316 -0.04093 -0.04028 -0.04948 -0.04601 -0.05711 C -0.05486 -0.06891 -0.06944 -0.06914 -0.0809 -0.07399 C -0.09045 -0.0733 -0.09983 -0.07307 -0.10937 -0.07191 C -0.11493 -0.07122 -0.12535 -0.06567 -0.12535 -0.06567 C -0.14948 -0.07191 -0.12118 -0.06312 -0.13802 -0.07191 C -0.15312 -0.07977 -0.16962 -0.08463 -0.18559 -0.08671 C -0.20364 -0.09249 -0.22118 -0.09596 -0.23958 -0.09943 C -0.25174 -0.09873 -0.26389 -0.09896 -0.27604 -0.09734 C -0.27934 -0.09688 -0.28246 -0.09457 -0.28559 -0.09318 C -0.28715 -0.09249 -0.29045 -0.0911 -0.29045 -0.0911 C -0.29757 -0.08162 -0.30278 -0.0733 -0.30937 -0.06359 C -0.31198 -0.05989 -0.31528 -0.05711 -0.31736 -0.05295 C -0.32135 -0.04486 -0.31875 -0.04763 -0.32535 -0.0444 C -0.32691 -0.04162 -0.32847 -0.03885 -0.33003 -0.03607 C -0.33264 -0.03122 -0.33802 -0.02128 -0.33802 -0.02128 C -0.34392 0.00346 -0.3434 -0.02243 -0.34114 0.02104 C -0.3408 0.03861 -0.34792 0.13202 -0.33003 0.1667 C -0.32743 0.19121 -0.32292 0.21503 -0.31892 0.23884 C -0.3158 0.25734 -0.31736 0.26057 -0.30781 0.2726 C -0.30503 0.28 -0.30104 0.29179 -0.29514 0.29595 C -0.28698 0.3015 -0.2717 0.30104 -0.26337 0.30219 C -0.16562 0.30057 -0.17222 0.30497 -0.11736 0.29595 C -0.1066 0.29063 -0.11962 0.29664 -0.10625 0.29156 C -0.10295 0.2904 -0.0967 0.2874 -0.0967 0.2874 C -0.08229 0.27468 -0.09739 0.24809 -0.08559 0.23237 C -0.08507 0.22312 -0.0842 0.2141 -0.08403 0.20485 C -0.08316 0.12809 -0.08628 0.05109 -0.08246 -0.02544 C -0.08212 -0.03214 -0.06823 -0.01919 -0.06823 -0.01919 C -0.06406 -0.01365 -0.06059 -0.01226 -0.05868 -0.0044 C -0.05677 0.01341 -0.05555 0.01664 -0.05069 0.03167 C -0.04705 0.04254 -0.04774 0.04647 -0.04114 0.05479 C -0.04062 0.05688 -0.04028 0.05919 -0.03958 0.06127 C -0.03871 0.06358 -0.03698 0.0652 -0.03646 0.06751 C -0.03368 0.07861 -0.03403 0.08462 -0.03003 0.09503 C -0.0283 0.10635 -0.02812 0.11005 -0.02222 0.11838 C -0.01979 0.12716 -0.01875 0.13641 -0.01736 0.14566 C -0.01667 0.14982 -0.0158 0.15838 -0.0158 0.15838 E">
                                      <p:cBhvr>
                                        <p:cTn id="130" dur="5000" fill="hold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18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18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2000" fill="hold"/>
                                        <p:tgtEl>
                                          <p:spTgt spid="1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14:01Z</dcterms:created>
  <dc:creator>test</dc:creator>
  <dc:description/>
  <dc:language>en-US</dc:language>
  <cp:lastModifiedBy>test</cp:lastModifiedBy>
  <dcterms:modified xsi:type="dcterms:W3CDTF">2011-03-28T13:50:13Z</dcterms:modified>
  <cp:revision>8</cp:revision>
  <dc:subject/>
  <dc:title>Henry’s Freedom Box</dc:title>
</cp:coreProperties>
</file>